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2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Img"/>
          </p:nvPr>
        </p:nvSpPr>
        <p:spPr>
          <a:xfrm>
            <a:off x="1714320" y="685440"/>
            <a:ext cx="3429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2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2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4877-CA7F-44FF-90F6-5281D663E6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B5F7-4FD4-41C2-80CB-F6A7E42E53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CBE7-90E2-4269-BC6E-EDCA300AF8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4B5B-ECD3-4470-BAE0-86A399E025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1DD8-1562-4E75-B198-B80D996E35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0DB8-DB68-4370-BB43-37E11B54EB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688B-4EFC-4AFD-B063-EA3A835460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FF8C-C338-4E49-A9E7-A058733219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94D3-3BDC-461C-AB71-C0FC7A1845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B26A-3CC0-4E55-98D7-40A6958146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DD91-E87B-4B1F-8DB8-01476C4D80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7225-BEA8-4EE5-874E-AE3543A50F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CF6F-D02A-4002-95D6-F61217F27C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BF5F-0DEF-4BDA-BD44-ECA0176A3B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76F63-1EA4-4A5B-AE33-789A22B38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29073-275F-4D97-BEDC-A81AD7A1403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66647-27C4-4FF2-8063-D246676F81E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1F58D-63AF-4132-A018-50B5693B01A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DC4B1-EDB9-4A3F-8C02-A871A4E6F1C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13909-9F41-4DBD-ADAB-F4528EEE337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160FD-15E5-4609-8598-7739D53723B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773DB-ADE7-4B39-B4BA-EAD2C5AA0F0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5C6AB-D8B9-43D1-8557-295E3518196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A76EB-071B-4F8E-9FA4-E470181FB1B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9DA14-764B-4360-A40B-662C2776EA4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E8E494-72BB-4FE2-B8B0-52B6A1FFA5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B048C-41C2-4A74-8A9C-6710B3C7594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35D8B4-E88B-433B-A167-7EC44E89823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7FA444-29C3-4762-9A61-5E6126180EC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423428-A14C-4878-80B6-6235979E221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147884-F892-4B51-99D3-7819AB4647E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FF9286-D577-43DA-AE1A-8856B5C0A23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B454D7-1982-4926-B4C9-F2CC0146140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7D58FD-6E78-4B20-A4D5-E11C9A97115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CDA01B-2858-4AFC-BDF2-193D5ABD3EF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49869A-C891-402C-A16D-A3C386243E3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6B318C-9648-4B7E-88A9-20EA8FC54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93A7B-F71D-4A5D-892B-E166C279CBB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1B0E6C-08A4-4CF3-B1AB-BE6FC0F557D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F7FD51-6E5F-4152-8796-0A38EC7FA0E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8EEBFF-B697-4D9C-A3D5-497016CD233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A1F46A-E964-4A2A-801D-1283C4FB95D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A0830D-996A-47E9-8271-24D41724E4B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60C63D-0B99-4D7A-A5FC-380BD1B4375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706B75-31A6-4E28-8D99-AF9026F209F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8C1B47-2873-46F1-B344-1F6DA090CCD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F11BE6-4EF8-4936-8CE1-338EEB3334C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4CBC6B-0AF9-425E-B9B8-D4ECC27319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83078-9C9A-48CA-BF59-46733632B70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C3841E-0F7E-4A10-8E32-B9D9833C8AF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86A036-30C4-416B-9C07-BC35A50E4D8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AD6280-B0B7-49A8-A6AD-C19DEF2D490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6EA7A-D693-41CC-9DCA-48AA0A9C17C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10FE0-03A8-4855-8F15-1F78D2E4648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D4A3B-D6C9-40AE-8890-5BEADF65E08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0D59A-4A5C-40CA-891C-AAC90228E9A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575C4-4A72-4BE7-AFD2-F3644E86355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B682A-D6D4-485E-AEA6-8ECD0B9A4FD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F14C8-18E8-40DD-A172-4C2DD16877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7F5D5-E082-4BEC-A118-CFAF8889807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D606F-0F62-4A94-BB74-EBAB099245C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E099D-78C7-4AD6-9ED8-0BE8CA787A7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E7388-83D1-4236-A5D6-1C27D56920B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540AC-DFA8-48F8-9F54-479A0B6E590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F8B1C-60D9-435F-B0A9-21B1626D566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CBC8C5-21D4-4240-AE39-BA4FC59EA8C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75B579-5587-42D6-8175-2CEFB940008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427FAD-CA46-4846-8563-B50EE259D00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E441BB-AA65-4C9C-A975-A19B40F699E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3C8E5B-5D5D-4B31-B256-5C64318E19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A8DA7-2323-4475-9BC4-140AF9A950D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9A268F-3CEC-4536-8591-AD99CAD0072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E7B237-9984-4F55-A3A0-4BEBFC0E5B3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B42C39-CE04-4A35-8C40-6E6B0952D58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45F663-95C3-4B26-A2EC-D4686465181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B27ECE-6211-41DF-9EB9-0800EC2AD1D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7EBF3B-7C6E-4797-88F6-BF689698851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2131C3-8B0F-4F0D-9FF6-036471FF5F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3C034-E761-44AB-A123-23013D1D68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D625C-18C1-42E9-9331-1B8D167E5A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608F9-A2C3-4E4D-8347-3C88146902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997E5-E45D-4DE2-9811-A268B6A1E4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2AFEC-79FD-44E1-BF75-01323FD38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81BA5-BEA4-4D4D-A161-15FF657576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70EEB-6148-4C07-A0EB-92DAD1FD5A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CA53E-E310-4D22-8407-7914CD8A05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5331F-D49B-44C4-8B62-9E76A54876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F9C97-93E6-4C05-ABF0-1BC2B995281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9587-D5D0-4DFC-A68B-C16467A0CC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26BA-87B1-4511-BD6E-CDEC3AE119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E92E-731E-4CF7-97AF-9814D42C34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3039-A9BB-4699-93B3-8C4B420CE4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F08F-C036-45CC-AD3F-F8A51E43FE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FC23A-D295-47A5-9207-744488D84A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6221-180A-427A-8A35-E74E54F2E0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E8A3-DAB6-4279-AB1A-868D6F32E5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359C-711F-4C5E-8F38-8EFBA6ADF0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DDB6-73C1-424B-B1E0-582CCB1516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195C-2AA3-40FD-9829-C4A83D9260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DC81-0DC2-479B-8FAD-23339570EE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DC98-8360-4C70-96D3-EFF3C89A7C5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4FF284-6009-4E8C-B765-D503463DFE6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53566-16E3-4D44-BE5B-21F822E477D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E5D0B6-CD6B-43CC-BFDD-5DB186653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B0B7E-FAFD-4FB8-B038-768164AD0AB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340647-3C4F-4D48-9C2A-D6A5F7EC147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C8CD38-6F08-4237-980E-AA897013CBD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5535AB-3B7E-42BF-9B56-C4953DE4D08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8050C0-D5DF-4553-A1F3-C1C8BEEB63B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99D7F4-2F04-4182-90F1-A73F1ABD7DB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1CC86-01FF-4AB6-992E-A3DCA226374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AC8AC1-BFC9-408E-A980-346AC615419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99B0BC-D6D5-44E8-B129-43FC7DD7734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0587AC-E893-4E64-A739-72ACFA63062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72D5EC-C0FF-4FAA-BC83-B92697559A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FB11D-3768-41B0-B91E-3711F82B768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64ADCB-A170-456A-9C1D-AAB7AA3A8DA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129823-FF1E-413F-AF71-2D39DA0ECBE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624500-C15B-4FC8-B04A-188D45A5B73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8B802F-7F65-4896-A19D-3B64E867235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8ABB57-4B9E-42A7-9A0E-A6A8D91E6D0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51C5FC-C439-44CA-8F6A-5033FBF498F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BF0436-E763-46BD-93C7-5EE68C0AAFE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C82338-5BFD-4A7A-A6A2-BB87B13467D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33E9B4-BA69-4BE9-94C1-3BA22E6D982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18B6C9-8602-41F9-B496-C92BDAEA6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62897-A359-4E1B-B918-481F18B1CF2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7EAFC8-88FC-432C-8204-9A9ADC0176D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0A8F1-D8D1-45F9-B514-EFBD70D1DC8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A6957-E0FD-490F-9BE7-BBA9B3E119B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84E4C-680C-42FE-9BFC-817E0A0EC13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02BC9-D811-46A0-997F-9465065253C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3F17E-35AA-41D7-8D5E-61474F84196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67190-DD94-4A9C-B57F-22B240EC571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C9254-D8B5-4D7A-9C3D-C5EE4AB5B66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CC44D-9B90-486E-A41C-E5861337513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16E13-D7FB-4896-B78B-97D606F15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93345-91A6-4BA3-82F7-544E530603F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7051B-F7C8-4CF5-A918-636CDCD1B90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4465D-B567-4AFE-A57F-C9A235159E3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A5395-DEEE-498E-9688-09E62F91BA9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0C190C-7695-4F92-8244-EC82D6B7DE9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039AFD-AD4B-49A1-BADE-E003C5B92D8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AB11A-DADF-4F3F-BC0C-B334BA4E5CB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641D48-52B8-4AB5-B947-23C7F153766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B26A25-AF1F-45C9-B237-21844F064A4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7BBB90-330F-4049-A007-0641BA9804E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001EDD-D98A-436B-945B-E058F3F00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F1A10-2AA7-4A53-8ABC-85EA7D41919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69F2BD-A0CE-4AC1-8D63-E287B71A22C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882EE6-2E43-43A9-A3E4-FD1112626D1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AD23B9-5798-4DCC-A36C-DF358DD5D91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7A8C81-58D3-444B-8D25-2B1B9E1CFF7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B646AE-B3DD-4D30-A5A8-5DB8C336FCD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A24745-D562-4829-BA43-132F8A163B5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BCCB04-3FCA-4F35-BF22-668C58896DC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54C4F5-EFD0-4F63-9428-67E8AEF8306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3E6E81-56DF-439A-B26E-1E94FF1A0DD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77595E-4E16-46CF-9EDE-F9D7BAB5A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12553-AA14-4C2A-8F40-CA139E6C01C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DA3767-557E-4EBB-BDD6-F443E490AEC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B9B280-5291-41D2-B42B-0348016A409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E9E2CA-2611-4412-8D54-191E2F85803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96B561-5B21-4149-BDA9-46A2B238DEA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391163-7650-489A-B0EA-2DB58133171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397533-A4DD-4D68-A721-755B262C11F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1435F1-3F3B-43B3-B570-DF5691F29DE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7E35F-CF1B-44E9-834E-FF254683704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10926-6D47-470A-99C7-030CF050CD4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93E45-273E-47AC-8F02-9286AA515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0C68-9452-4827-8162-D0C629071CB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1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506F-28C2-4AFF-9F85-9D44CA36F2E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2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FF69-6701-40CE-B573-ADA7133B54F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2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2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7246-7C93-4191-8D4F-C250C7FAA7E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2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2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D643-F91F-4FE9-A585-1227F20A8C4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F0DE-1624-405D-AA71-B6785F92231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4BAB-0B2F-460E-BFCF-23878FE7C1A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F92A-2AEE-4EB1-9236-DBD1F252C20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484A-8AC5-4651-8363-FF61CA7AC8E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7159-1834-45E7-BD89-90B4320C91D2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1EEA-EA5E-44AD-AC0B-198DC5E2BBB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1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1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6C4F-58A8-4EFE-9BE9-99A962E50D8B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6266-FD3F-4A75-B41F-F83E05E8963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9AB5-F7CF-4E51-B6A8-3161ED2B20D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93480" y="1794960"/>
            <a:ext cx="82278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Service-oriented Architecture (SoA):</a:t>
            </a: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Preparing Your Business &amp; IT Products</a:t>
            </a:r>
            <a:br>
              <a:rPr sz="3200"/>
            </a:br>
            <a:br>
              <a:rPr sz="3200"/>
            </a:br>
            <a:r>
              <a:rPr b="1" lang="en-GB" sz="4800" spc="-1" strike="noStrike">
                <a:solidFill>
                  <a:srgbClr val="808080"/>
                </a:solidFill>
                <a:latin typeface="Times New Roman"/>
              </a:rPr>
              <a:t>Session 1 – Concepts for SoA</a:t>
            </a:r>
            <a:endParaRPr b="1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83920" y="6392880"/>
            <a:ext cx="806436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r Colin Smyth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unelm Services Ltd (colin@dunelm.com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5" descr="88x31.png"/>
          <p:cNvPicPr/>
          <p:nvPr/>
        </p:nvPicPr>
        <p:blipFill>
          <a:blip r:embed="rId1"/>
          <a:stretch/>
        </p:blipFill>
        <p:spPr>
          <a:xfrm>
            <a:off x="469800" y="7835760"/>
            <a:ext cx="142236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4712-E953-4209-9A50-13027A25A95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Business Perspectiv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30120" y="2234880"/>
            <a:ext cx="844560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oA used wisely will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reduce costs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increase efficiency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facilitate inno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Not every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business process benefits from using So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dentify the main business drivers and the expected RoI for using So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Do not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use technology fo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he  sake of the technolog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4A3E-AB5A-4A97-83B9-86F0351AB310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SoA Maturity Model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aturity models enab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47440" indent="-417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rganizations to assess and improve their capabilities and operational performanc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47440" indent="-417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uppliers to position their product systems, tools and applications and to identify new opportuniti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he Open Group’s Service Integration Maturity Model is one such comprehensive framework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7DAA-A7EA-43C1-BAD4-265CEB597AE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Enterprise Integrati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nterprise Integr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Multiple services, systems and si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Flexibility and chan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Heterogeneity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homogene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usiness process optimis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oA should be a part of Enterprise Integr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ase Studi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Oracle’s Enterprise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Student Administration Integration Portal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(SAIP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ifferent approaches by which SMEs use SoA to drive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roduct inno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Amazon Web Services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o extend the capabilities of a syst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A7C0-C473-4613-A25E-DF445E2E6B1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ore Technolog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re Web Services approach based upon XML, SOAP, WSD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st practice based on the WS-I Basic Profile and support Profil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bate about SOAP vs REST-full approach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, and separation, of interfaces and protocols to create flexible design for product inno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9738-7CEE-43BF-A471-A42937C8AC71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0A1D-8BD0-4491-A690-F23B8949177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72960" y="2234880"/>
            <a:ext cx="827568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-oriented Architecture (SoA) defines how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services interact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o achieve a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business objectiv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oA used wisely will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reduce costs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increase efficiency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facilitate inno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re technology for SOA uses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eb Services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ed on XML, SOAP and WSD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icense &amp; Acknowledgement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2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8CF6-FA82-4D01-8D16-F3E79CAC239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Picture 8" descr="CCImage.tiff"/>
          <p:cNvPicPr/>
          <p:nvPr/>
        </p:nvPicPr>
        <p:blipFill>
          <a:blip r:embed="rId1"/>
          <a:stretch/>
        </p:blipFill>
        <p:spPr>
          <a:xfrm>
            <a:off x="1066680" y="2031840"/>
            <a:ext cx="685800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D297-AC9D-40AC-B351-04BE0E122AF0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earning Objectiv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ntroduce Service-oriented Architecture and explain its relationship to current best practices in terms of IT service provision and business oper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how Service-oriented Architecture can be used to drive technical innovation and support business process change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68D3-7CDA-460A-8F1B-5C34EC4D085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What is SoA ?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-oriented Architecture (SoA) defines how two or more services interact to enable one service to perform work on behalf of another service.  Each service interaction is self-contained and loosely coupled, so that each interaction remains independent of any other interaction.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668D-3FAC-45A5-B305-CCE0ED589FC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Why is SoA Important ?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reates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business models and business opportuniti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nables business integration without requiring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homogene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nables the use of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on-demand services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to reduce cos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duces the likelihood of the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one-stop-shop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implifies technology integr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50CB-61A2-42DC-9FBE-189915917D5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When Should SoA Be Used ?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o enable enterprise integration of disparate IT system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o increase efficiency between business part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o increase productivity by improving access to inform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o leverage existing enterprise asse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o enable flexibility for rapid response to market change or new competi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Who is Adopting SoA ?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74840" y="2196720"/>
            <a:ext cx="3990960" cy="59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upplier Perspectiv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arge system suppliers targeting smaller us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mall system suppliers targeting Enterprise us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618080" y="2196720"/>
            <a:ext cx="3992400" cy="59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’s Perspectiv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rge/Medium organisations with integration need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MEs requiring new business servi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s needing low cost service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46B0-F6D0-41B3-848A-3FA1AFB4B59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BCC5-91A7-46B5-8811-0F299EEC333B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Where Should SoA Be Used ?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verywhere (almost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ifference between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OA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o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pen and proprietary approach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al-time and embedded systems 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tand-alone tools, applications and systems 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3AF6-19BD-4999-A32B-8B809E75744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How is SoA Achieved ?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ost systems use Web Services which is a combination of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OAP messag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Hypertext Transport Protocol (HTTP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 alternative lightweight approach, termed Web-oriented Architecture (WoA) uses RES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CA73-5FEE-462E-8515-2AC5EB90F951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Gartner Technology Cycl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1570680" y="7873920"/>
            <a:ext cx="57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Gartner: http://www.gartner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Group 13"/>
          <p:cNvGrpSpPr/>
          <p:nvPr/>
        </p:nvGrpSpPr>
        <p:grpSpPr>
          <a:xfrm>
            <a:off x="888480" y="2646000"/>
            <a:ext cx="7417440" cy="4232880"/>
            <a:chOff x="888480" y="2646000"/>
            <a:chExt cx="7417440" cy="4232880"/>
          </a:xfrm>
        </p:grpSpPr>
        <p:cxnSp>
          <p:nvCxnSpPr>
            <p:cNvPr id="670" name="Straight Arrow Connector 8"/>
            <p:cNvCxnSpPr/>
            <p:nvPr/>
          </p:nvCxnSpPr>
          <p:spPr>
            <a:xfrm>
              <a:off x="888480" y="6877080"/>
              <a:ext cx="741780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71" name="Straight Arrow Connector 10"/>
            <p:cNvCxnSpPr/>
            <p:nvPr/>
          </p:nvCxnSpPr>
          <p:spPr>
            <a:xfrm flipV="1">
              <a:off x="900360" y="2646000"/>
              <a:ext cx="13320" cy="4231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672" name="TextBox 14"/>
          <p:cNvSpPr/>
          <p:nvPr/>
        </p:nvSpPr>
        <p:spPr>
          <a:xfrm>
            <a:off x="7369560" y="6883560"/>
            <a:ext cx="9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Box 15"/>
          <p:cNvSpPr/>
          <p:nvPr/>
        </p:nvSpPr>
        <p:spPr>
          <a:xfrm>
            <a:off x="196200" y="2108160"/>
            <a:ext cx="15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traight Connector 17"/>
          <p:cNvSpPr/>
          <p:nvPr/>
        </p:nvSpPr>
        <p:spPr>
          <a:xfrm>
            <a:off x="896760" y="6265800"/>
            <a:ext cx="7340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Straight Connector 19"/>
          <p:cNvSpPr/>
          <p:nvPr/>
        </p:nvSpPr>
        <p:spPr>
          <a:xfrm flipH="1">
            <a:off x="1657440" y="2668680"/>
            <a:ext cx="1440" cy="3581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Freeform 39"/>
          <p:cNvSpPr/>
          <p:nvPr/>
        </p:nvSpPr>
        <p:spPr>
          <a:xfrm>
            <a:off x="1066680" y="2806560"/>
            <a:ext cx="7180560" cy="31957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traight Connector 40"/>
          <p:cNvSpPr/>
          <p:nvPr/>
        </p:nvSpPr>
        <p:spPr>
          <a:xfrm flipH="1">
            <a:off x="2495520" y="2693880"/>
            <a:ext cx="1440" cy="3581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Straight Connector 41"/>
          <p:cNvSpPr/>
          <p:nvPr/>
        </p:nvSpPr>
        <p:spPr>
          <a:xfrm flipH="1">
            <a:off x="7203600" y="2693880"/>
            <a:ext cx="1800" cy="3581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Straight Connector 42"/>
          <p:cNvSpPr/>
          <p:nvPr/>
        </p:nvSpPr>
        <p:spPr>
          <a:xfrm flipH="1">
            <a:off x="4747680" y="2693880"/>
            <a:ext cx="1800" cy="3581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Box 43"/>
          <p:cNvSpPr/>
          <p:nvPr/>
        </p:nvSpPr>
        <p:spPr>
          <a:xfrm>
            <a:off x="7209360" y="6197760"/>
            <a:ext cx="154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teau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Box 44"/>
          <p:cNvSpPr/>
          <p:nvPr/>
        </p:nvSpPr>
        <p:spPr>
          <a:xfrm>
            <a:off x="4843440" y="6172200"/>
            <a:ext cx="227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lope of Enlighte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Box 45"/>
          <p:cNvSpPr/>
          <p:nvPr/>
        </p:nvSpPr>
        <p:spPr>
          <a:xfrm>
            <a:off x="2481120" y="6197760"/>
            <a:ext cx="227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ough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illusi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Oval 46"/>
          <p:cNvSpPr/>
          <p:nvPr/>
        </p:nvSpPr>
        <p:spPr>
          <a:xfrm>
            <a:off x="7323120" y="4224240"/>
            <a:ext cx="203040" cy="203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Oval 47"/>
          <p:cNvSpPr/>
          <p:nvPr/>
        </p:nvSpPr>
        <p:spPr>
          <a:xfrm>
            <a:off x="1049400" y="7526160"/>
            <a:ext cx="203040" cy="203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48"/>
          <p:cNvSpPr/>
          <p:nvPr/>
        </p:nvSpPr>
        <p:spPr>
          <a:xfrm>
            <a:off x="7307280" y="2443320"/>
            <a:ext cx="158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We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traight Connector 50"/>
          <p:cNvSpPr/>
          <p:nvPr/>
        </p:nvSpPr>
        <p:spPr>
          <a:xfrm>
            <a:off x="7424640" y="3301920"/>
            <a:ext cx="0" cy="92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Oval 51"/>
          <p:cNvSpPr/>
          <p:nvPr/>
        </p:nvSpPr>
        <p:spPr>
          <a:xfrm>
            <a:off x="5122800" y="5138640"/>
            <a:ext cx="203400" cy="203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Box 52"/>
          <p:cNvSpPr/>
          <p:nvPr/>
        </p:nvSpPr>
        <p:spPr>
          <a:xfrm>
            <a:off x="5118120" y="2811600"/>
            <a:ext cx="8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traight Connector 53"/>
          <p:cNvSpPr/>
          <p:nvPr/>
        </p:nvSpPr>
        <p:spPr>
          <a:xfrm flipH="1">
            <a:off x="5213520" y="3362400"/>
            <a:ext cx="1440" cy="178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Oval 55"/>
          <p:cNvSpPr/>
          <p:nvPr/>
        </p:nvSpPr>
        <p:spPr>
          <a:xfrm>
            <a:off x="3411360" y="7535880"/>
            <a:ext cx="203400" cy="2030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Oval 56"/>
          <p:cNvSpPr/>
          <p:nvPr/>
        </p:nvSpPr>
        <p:spPr>
          <a:xfrm>
            <a:off x="3429000" y="5122800"/>
            <a:ext cx="203040" cy="203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Straight Connector 57"/>
          <p:cNvSpPr/>
          <p:nvPr/>
        </p:nvSpPr>
        <p:spPr>
          <a:xfrm flipH="1">
            <a:off x="3546000" y="3328920"/>
            <a:ext cx="1800" cy="178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Box 58"/>
          <p:cNvSpPr/>
          <p:nvPr/>
        </p:nvSpPr>
        <p:spPr>
          <a:xfrm>
            <a:off x="2463840" y="2443320"/>
            <a:ext cx="223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-oriented Business A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Box 60"/>
          <p:cNvSpPr/>
          <p:nvPr/>
        </p:nvSpPr>
        <p:spPr>
          <a:xfrm>
            <a:off x="888840" y="6926400"/>
            <a:ext cx="58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ars to mainstream adop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Box 61"/>
          <p:cNvSpPr/>
          <p:nvPr/>
        </p:nvSpPr>
        <p:spPr>
          <a:xfrm>
            <a:off x="1333440" y="7370640"/>
            <a:ext cx="234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2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Box 62"/>
          <p:cNvSpPr/>
          <p:nvPr/>
        </p:nvSpPr>
        <p:spPr>
          <a:xfrm>
            <a:off x="3720960" y="737064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5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2:33:52Z</dcterms:created>
  <dc:creator>C Smythe</dc:creator>
  <dc:description/>
  <dc:language>en-US</dc:language>
  <cp:lastModifiedBy>Colin Smythe</cp:lastModifiedBy>
  <cp:lastPrinted>2009-04-30T12:36:57Z</cp:lastPrinted>
  <dcterms:modified xsi:type="dcterms:W3CDTF">2009-06-15T07:48:58Z</dcterms:modified>
  <cp:revision>264</cp:revision>
  <dc:subject/>
  <dc:title>No Slide Title</dc:title>
</cp:coreProperties>
</file>