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7AE-77E8-4814-9A2C-3BDB5A821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2D48-75AB-429C-9C2B-255C2D983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359-53C2-4DD3-9FE1-40E6A855AE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31A-88CF-4DA4-8E98-741FDCDC61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81E-F908-4A2E-AD84-D243CDC0C1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1864-8DF2-4028-A0EA-AC3E4E7CF5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B1E-F902-459A-9BBC-430BEB266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E2B-9C5A-4864-A73B-7D3FCC094C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DBBA-8401-49A7-9F5B-73704577EF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D48-8987-4E03-9AD2-BC50895B0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6480-4320-4042-BBED-60979CDFB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740-A6CD-4BCA-8ACF-38753E2A5D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B95A-6E44-445D-AF02-F38FC0D033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83D6-8A37-40F4-8322-D999862ED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7782-B0F2-4C98-97B8-63743ED8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7037-BCD7-40C1-957A-C3442C209B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E536-31B3-45E8-9B3F-2F20F23B41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A6CD-8BCA-4D27-A201-9F0834C0A1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0DE0-C508-4BA0-992A-D657F6FF16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B22E-8F05-48F4-9518-3F1238392B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DE35-B9D3-4EEC-94D5-D789AA97DB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BD65-0025-4B87-87A2-EDA1A64131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1BB3-500A-4B81-90E2-1519ACDE5D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BA6F-DA32-4C86-9F64-4BF092D5F5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792F-EC58-4719-B2DC-94E213A168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B77AA-600A-49DF-A206-FB0CC3BD8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E0EA-8330-4C53-8C7D-94FD5BFAE4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A907A-D977-417E-9BE4-5CE37C1639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4B5D2-2A57-4E4E-872E-520E2C2820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A3BCE-7239-4B9D-8B14-262000EBF08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C1EA6-9EFF-4E0F-97B7-7861DB15F6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7CB22-6E72-455C-BCF6-54ADBAE4B7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F4CED-B10D-437C-AEE3-EE69D7FE7C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50A27-E8DC-41E1-9661-960428A7E2F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6EE24-2593-4BB9-998E-3FE3FD85B4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814B1-171B-4487-A4C0-1E36B68E3C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CEFA6-D9BC-4FD6-AD6D-1DA9431B4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CCF1-321C-4FE6-9E18-230483ECBC7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C47D0-117D-4FE0-9B2E-3D112A1A55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6E5E7-0503-48E9-BE44-6DF3EF818BD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52317-17C0-4489-A0E1-9B4AA2608F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875B37-AF4B-4E7C-9B98-EAFD3145ED1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9B1C9F-FAF2-4747-B237-C785EE1135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9952B-DDEF-42E9-8DF2-A708315DAF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3FD2C1-201D-4A09-8253-186919266E0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51BDF-D1A1-4BD6-A932-222FBE69A4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CCCCC-9A75-4A19-A554-416741E763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DA07D-18F3-4E60-BDD9-C18B181E9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1D7DF-1F0A-4CAE-BA7A-73D3C8195AC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ED899B-F320-472B-9259-1B2F9393D2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2AD8A-31BF-4C53-9A63-2A88026471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72DE5-8399-4EA7-9B1A-3A382BA4D3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B3A1-6BBB-4FE3-B443-9751E57BC8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49C7-95AF-4FEE-838E-A14046B07C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45E1-EE68-43E5-BE27-2D566645E5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FF82-059D-47CD-97C3-572928F320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EEEF3-02C1-4806-A41E-98AB62AFB09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36AB4-956A-4EFC-9A22-F4531F835A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66EEC-7DBD-4E19-9736-1143A4C66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1E03D-1BFE-4189-99E8-656CEFC8CF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05BD6-52E7-40BF-B13C-9CC0E0956A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1E4F-51A6-4A79-97ED-045D338EB2F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88821-93AF-410B-B088-89222078849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0810-3D41-487E-831C-F08E338417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37B33-6569-448C-918E-955B9CF56F3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09A05-6FF5-49AE-831F-95AB5A26E0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BDE4E-55AA-4AB2-9C51-8712AEF356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35772-2673-4903-AF84-40F5FA60693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7E75B1-A3FC-43EB-8168-5DD0F14F64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3548B-7627-41C3-9334-F00353153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1A419-6083-4AB6-9175-2888BC21B4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9A740-1ABE-467D-B557-FDBEC21224C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83A14-D00B-4BEA-AB06-8F232F976E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DBB9F-C165-4D38-B445-B1A46D1BBD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ADE92-0A11-4323-BDDA-2D7D19E9C1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6AD3E5-F37A-4E81-897A-5EA76960EA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2E09BC-0842-4F68-B350-CEB238DCB2A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1CA47-D15A-4C84-BDAE-4FCF2C90B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2EDB-B432-426C-96AE-A0231FA8E0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54776-FFD9-4FDA-9289-640F6CD09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329A-BE71-41B1-A786-1EE2F7ADF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ACA09-8E65-48DF-A6A5-57DC06385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CDD1-0955-4633-8389-C286127D8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60BC4-C5C9-4FD6-ADC3-59FA616A5C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6FD39-97F1-41B4-AD60-A333479F0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1E6CB-FC12-40F1-914F-8CFA3BB1C0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44B92-D6A6-493A-90C6-7D111BAF8C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85B64-17C5-4203-BD73-FD9C695CB6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D28-DCFA-444C-AC37-D44CF04D63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E73-6104-46F1-A408-06F1890FE5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A032-2C39-4E93-A499-2F93A78E98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74D-D183-4B9F-A592-8988890C5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B52-70BC-4129-B0AF-457EF0697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9FEC-EFB7-4DC8-A16A-011664E6A1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8BDE-4258-40C6-A1D5-021B0C223C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6D01-30F0-4CAC-82D6-DE44FC203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B81-2022-43EB-9B26-A4C8CA6E4D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8E6E-EDD0-4647-8593-6F60A9C596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BDC8-D823-4F65-A303-F1F71C1EC7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C6C-88CA-4509-8B2F-D1D69EDA40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B36-5FA3-4960-B872-A6F64BEC0D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40DC-2652-4E39-BD5F-DBA792DFCA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BE467-3F00-431C-9634-B58C9C9103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85170-AF44-4577-B82F-8FC3714AD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EBE8-3136-4EB3-93B6-2CAE4EC1F4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42A3C-3DC5-4762-B507-A71587A830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84AE8-E8F7-49E8-92CA-86E5B0DC73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94C92-EDD0-4659-8F1C-67E3CF1A03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72B8F-9FC3-4218-9125-E348214D01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7C262-C0B9-4D29-AE3E-77EE86F67F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3D634-6822-479C-91C9-393AB02B6F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D9AE0-0C6E-4795-A332-7C883BA9F8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B9CF5-284C-44C0-8432-EBBDC14AA8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02B09-C0BC-43FF-B05B-04F4E2115A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868562-6041-4930-A9F5-BBD48C56E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522D-B6AD-4A74-86B0-FAD0D84FDD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F5970-9AEB-4B61-977E-4AC82EC526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B9866-7BFE-4668-8083-BC5C2205FB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2212C-305C-4C08-B64E-2B8EE94E72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061A1-5B3A-4067-9E18-601D9C93F4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061B6-A910-4081-8E81-FEF472089C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9D192-03FF-4C14-B357-446E26BD89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55ABA-E93A-4E41-A05C-F05E84E875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F6281-5AAE-47AE-9377-27ED224581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D912F-19C2-4600-BFD1-C9852DCC4A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E3E36-75A6-4810-8933-EF8AF9353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97E7-7665-45C7-9207-E5C6330EAA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E5689-0F24-439B-B49E-41F205D69B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D9C7-9D1C-4162-88C8-AF1B14DF37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BDD6-64B2-40BA-92FC-FD3BBCB1C1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D224-997E-4F30-B56E-BB12D42174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07AD-242F-4FC0-9ADD-3B4C58A384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EEDA-8648-4EAD-AD35-6446308DF3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05D8-225E-455A-9F8C-734D9E8A33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9AE2-8517-4067-8665-B2FF220901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A6B1-5580-454E-B4B3-918C623241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61AF-4C81-45D6-ACD3-16B584D0C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B491-F98A-47E4-B783-F7024A90C7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5397-34C5-478E-88D6-777C8B6DBD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F95A-D472-4E61-94A5-13B185D3DF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6DAB-3BF9-4038-A037-C8C496DBD9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5AD0D-4DCD-4EED-A2AF-DC0B44380C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59B77-F491-4BB9-AF91-3EC3A72B44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B3FD0-FC24-4321-82B6-167FC8D373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FC5C4-3359-475E-B6F9-137F1C6D67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60B7D-4438-46A5-AEB7-624906F5A5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440C7-E1D6-40ED-B2FB-6D9295BDE4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D4D2F-C83A-49D9-8348-2294876CD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F6EF-16F3-4D4B-8F56-3ABB32A19F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CA3E1-B92F-44D9-8C04-B1F34EAA68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9E73F-F31F-467D-BABC-BB980511AE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FCB88-FD5C-4031-BD04-ACF6F11C89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5D6A7-4C96-4F70-A41B-C64A33C06E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14E34-5321-4D8F-9E91-F9C52F30F5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83792-C0BC-4591-85A9-AA23001D46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451B8-CF9F-4A97-9A0B-BC907B9B9D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91230-93FF-40AF-A774-018C52085B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F065F-54ED-4399-AE72-2D58CB266F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BC7AA7-824B-4CF8-B311-0961BF307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8227-1BC8-41BE-A310-9C1357138E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E6B978-E037-4EC6-9569-04DB294817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3E677-9A46-4AFA-9C0D-02F221E539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1370D-5CFD-4BAE-BD10-6C70B45FEA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E3EC97-A1F6-44B7-BB68-34337D812B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FA3A91-D85E-44D0-A5C0-057900C12E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2EDEE-7F7C-42D1-B4FD-65198CD926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91E2A-5C9C-4A8A-B3E8-30767380AC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E431-3777-4884-B455-3D8D76B3B6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D454-6EEF-4E0F-A40C-539C1940B4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3688B-14DD-4915-AF42-D4B1636C0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083-F3EC-47FE-B4F0-44F0EA98BB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A38-E4E1-40C5-80B2-468D0C96C4E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B436-EC32-4112-908A-2810F9EE76F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76AC-8AC6-4A08-913A-E9E77347508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AA0-CFEC-4610-85B5-12AC8178923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E62-E3FE-4B06-9AAE-4F607BC0040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24F-114D-46D2-B7B4-3053F99956A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5596-6B3F-44FB-A55D-1BD510FC637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77D-5740-4643-A6DA-309A53367E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9B6-B10A-4289-ACC6-7E1E83A2043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C59-B9CC-4559-AB9E-5159BED58F2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80F-A2AF-4CCB-BD2B-3F803D2E5BA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FA8-EFEC-443B-B68A-CFE2C89AE7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7CF-A8A7-42A4-8493-EE87D7AC4C5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2 – The Business Perspective &amp; Opportunit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936-6CCD-4D83-A4C7-14FF41C56CC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Mi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volution or evolution (consider the architectural implications)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do new clients require and what will old clients suff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and define key service interfaces (internal and exter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ill be the support and maintenance implica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Web-based updat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52A2-AC3C-4777-83BB-509557CC820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rocess Modelling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derstand the operational processes of the organ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del the business processes and identify information flo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ptimise the model and identify the operational cha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fine how the operational changes are to be realised (inc. the technology changes e.g. So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hange Manage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10760" y="2196720"/>
            <a:ext cx="432612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lacement of manual processes by computer-based proce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oid the natural negative reaction to new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cipate in the requirements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618080" y="2171520"/>
            <a:ext cx="39924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velop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service-oriented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ine the development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ult users throughout the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2BC-9D2F-4055-930D-618B194051C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turn on Invest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duplication of operational activities and information sto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maintenance and upgrade costs via remote user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reporting and auditing costs with increased accuracy and timeliness of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enue opportunities through new services and feat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526-EEF8-47BE-ADFB-8D2241F0026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echnology Considera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74840" y="2234880"/>
            <a:ext cx="82245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owser-based User Interfa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rtua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ftware as a Service (S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tform as a Service (P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rastructure as a Service (I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6D8A-8FB2-4D11-BD2A-9EFD660B2AA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66A-1DA9-428E-8F3C-31FD5AFF194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43080" y="2234880"/>
            <a:ext cx="83944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E9B-B991-4A8B-91AA-DD806DDBA45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DFB-93F9-4875-BA4D-DBD2F8EDAC4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474840" y="2235240"/>
            <a:ext cx="813564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business process issues to be considered when preparing to adopt So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en and why SoA ma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e the answer to a business IT problem and how to identify when/where SoA can be of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o identify the possibl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mercial Impera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4560" y="2196720"/>
            <a:ext cx="426708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ce product cycle times and development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ansion into new markets (large and smal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reased need for Enterprise integ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18080" y="2171520"/>
            <a:ext cx="4132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Pro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flexibility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integration due to increased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ongevity and reduce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556-C191-44A5-AF61-13AA65D9ABA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3009-C8C5-4C9E-BFA1-FEBE0A56A78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quisition and mergers driving business and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udit demands of corporate governance and compli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reasing market competition and need to identify new marke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ments to increase efficiency and effective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A14-E55D-4996-B7EE-D7258D17913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Horses for Courses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i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he solution whe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 small percentage of an organization’s IT budget is spent on integration activ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ajority of an organization’s processes are manual, with little opportunity for auto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eration of an organization is managed by ERP applications with little or no integration requirem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AC9-4D6A-4AA3-A356-2C55C3C3352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ivide &amp; Conquer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service ha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igh cohesion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low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business proces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transaction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ed of th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use existing services whenever possible, create as a last res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reusability when designing a new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EB5-A605-496D-8DBE-5267BF2C6A2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Design Paradig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ised Se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vice Con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vice Loose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bstra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Reu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utonom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Stateless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Discov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Compo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A9B-3265-4DDB-B97B-12D9EE249B0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ability to connect together system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ing new integration development 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moves the need for homogeneity but still requires consistent semantics for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s a set of well define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internal and external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564-C6E2-495F-B640-D21478FDB0D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Solu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4480" y="2235240"/>
            <a:ext cx="813564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ce an interface has been defined and the service realised, should the interface be revealed as an API and/or WSDL fi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encourage other products to integrate with your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– become the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interface standard for a business sec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– to maintain proprietary advant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8:28:14Z</dcterms:created>
  <dc:creator>C Smythe</dc:creator>
  <dc:description/>
  <dc:language>en-US</dc:language>
  <cp:lastModifiedBy>Colin Smythe</cp:lastModifiedBy>
  <cp:lastPrinted>2008-02-19T11:08:18Z</cp:lastPrinted>
  <dcterms:modified xsi:type="dcterms:W3CDTF">2009-07-03T13:04:12Z</dcterms:modified>
  <cp:revision>263</cp:revision>
  <dc:subject/>
  <dc:title>No Slide Title</dc:title>
</cp:coreProperties>
</file>