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C250-2C1C-42BB-942B-5DA6084D8F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CCE-AB95-4BDA-9B5D-10DBF4802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8D50-4E88-4171-87FE-94952A882D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51D-82BD-46A8-B1A1-7C89F0E9CB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A2B1-2FA4-426B-AFAB-2AABECF416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B433-62A9-4F06-BA96-972294AAF7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B5B4-B186-44FB-B2B9-785D0AA851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975-8ACF-4827-A203-26618324EF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BD64-E9DA-43F9-B2DF-4098565A1C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3B7F-96A5-4D4D-8C47-BC01512AD5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B0F5-952B-4F85-BA3E-FF2FCFC048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34D-6C7A-4DA3-BB40-749A6702E4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324-88A3-49F3-A812-3297F45E79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89D6-5DEB-4C71-97F2-04D72B63DE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C1DC-4E3B-4BD3-8BAD-113D1E006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3E72-70DB-4820-BEB9-AC3CE79F80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E3E77-1E4F-4249-9FDF-6995FA7C6EC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93A1-771D-40A1-B9A8-C1E3865CFF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5095-DBBE-4DB8-9F17-0CA71BF9D9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7C078-A466-49C2-AECC-C5D082528C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41F0-3879-41DA-92D1-DEAF5AA7450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B368-85FF-4D1C-A5C8-A63F608CBFF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6EE2F-DE2A-4018-B82E-E106E1283A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D2984-E910-46E6-906E-205D54D734A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AFCF-3112-4532-B0DF-502C62642B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33282-BC51-493A-9147-A45DF5E21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6A6E2-BB9C-4F3C-A3E4-0EA85C9C41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3ACD8-E30B-4E33-AEF6-1B1345681A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E1BEA-3E6F-4358-AD78-D6028B8440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DB36F-A1E8-482B-90CC-47A0BBC723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46F2C-9C99-49D0-AE63-6336E7DBA8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E96208-D6EE-4218-8EB3-FA2645B590C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D31E4-3EA2-4547-A234-93D667F469C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ED6048-547E-478A-8E3F-45BB615452F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20FB4-F3C6-452F-AA19-D32E2B2A3E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FCC4B-D987-4F81-BC07-2F55964B04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8DA6D-3E17-48E9-986A-8269BDE87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36E1-E2E5-46D2-848F-00EBA50294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5E77E-0DBE-40F0-9C4D-8595E4485A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4985D-F9E5-40E0-A143-A299CF4DE4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E859E4-F4AB-403B-86EC-0BF8B52F58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8C1049-3476-4A75-ADAB-0332D6F6F7D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A3F977-8A37-4675-A0D1-4932F42F58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06EB1C-5196-47B5-9FF2-2239139E171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F4BBAC-47E2-40B4-A3DF-7219F74711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C3BEEE-598E-4E7E-90FB-BC66AD8EA7C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D1BD7E-B3BA-4507-A2F1-B22C007441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DB4791-3DBA-46D3-A0BF-BDFADF856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A95B8-3C0C-410F-8860-7B1F4016D77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F25B24-B7E0-4506-B5BF-54A350D054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0EA36-39D1-442B-BB62-3720CE53E7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643F5-42C1-4691-9020-BDE6436B58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5E44F-3A34-4A08-B43E-F0BFCC98C8C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F8D1-BAFD-4B2F-918D-5930B907DE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EA6A-F90E-44AF-AE87-35D836B5C5E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A872-0C75-468A-A420-6C88EBE1F58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9783E-FAA1-4B26-A9DF-DD35082D44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B3190-AC11-4B1E-AE7F-E69E1A6C665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5198-4561-44D6-87B2-762E1F3C9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62FBF-B16F-4EF8-89DA-3E721AA01B5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9AA5-1762-4EB2-BDB6-0A14E3626A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5DD1D-AC81-4647-9F7D-24B52D0ACA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0DC3-9D34-4E96-B60B-C5AAFDBCB49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57DCF-2E80-4FC2-A625-497CE3DB247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C006-1955-44D1-9D79-176ADDEA28F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07916-6DCA-4197-A4DF-1C5BA83209A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CAD97-9536-45EF-958F-4ADC6F35BA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FD99C-9844-4C0F-8738-ABF1C3C653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267CF4-7461-445F-AF9C-492F9E7442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36D1E0-8AF3-482C-A56A-F28CBE6BC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E3C93-D7D1-4269-809B-72941E1B632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6A777-9FA2-4938-9A81-E7731410E55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4AB6AB-3194-474A-A596-5735F89E189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99B0B-EA5C-4320-B04D-9B0338CAA5E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1B368-ABDD-49F1-8403-B07EBA4C5CA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6B60D9-E5C3-4379-889F-627CBE33733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93EE2-3378-43E9-A2A5-D319986A0BA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51A05-D87B-4EA6-8FD7-FF1AE86FCF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91004-6A98-4666-8B95-619B1A2202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0F710-C978-4B1A-8BF2-B5B54C3368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23DE3-B124-4383-8CCD-2E41E51E6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21DFA-25E4-486A-95C7-277EE0E96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F18F-740C-4B27-917E-13C7AA461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861C-83F3-4DAF-8BEC-697D21BFA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54EAE-5385-49E7-BAF3-147B44EF3E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1EF79-FA62-4ADD-97E4-9B244DE2A0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652CB-835B-466D-BFCC-85F2D5670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027CE-F2E2-47EA-8C80-0B25BB06848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3E5D-DB49-43FD-8D53-5C30CE8CE0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07BB-7073-4155-ACA8-0FA6A4450D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65B1-7E49-4688-AECC-6D1321C39E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15A0-DF96-4562-A638-63005AE31E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226C-9A52-4D16-A78F-FE2628402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6A9A-BC38-44AE-94AE-FED1BAB13D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7DE-FA73-49A0-A50C-1B5DD3F632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A229-0F86-412C-9EE2-909862582F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8FC6-2AA5-4C2D-8A29-665F5C8EAA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57D6-1A08-4D10-B8E8-929C1DCBB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1294-8FB2-46C7-9FCB-303E268773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E83-CE1B-4125-BA27-413637C193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8080-5AF8-4206-A8AF-9FD91637A5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D8CF4-CC43-453B-B401-57994A04C1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1125F-A9F4-4E24-B434-F2408DCCD7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8149A-33EC-4E5D-8512-D3EC8D176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09988-C2A2-493E-94F0-3EB3AEB6B4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F3EEF-E7DF-4F7E-9F56-6E6EE19331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93955-FB3B-4583-8BF4-94924903CC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3E420-A442-44B0-813B-90EE528498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A922A-2080-4626-BE14-4274C6E5F7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523C0-0B04-4174-82ED-613333445A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6AE19-2D7C-446B-8B1A-93DE0EA567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04A67-E436-4598-9848-40BE5F3056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D93B6-7124-421D-8E51-26AA83816D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9DB1B-8622-4986-A59E-7719F9BF76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612EF-2CD4-4282-BB31-A834E280B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C4C9-F857-4F0E-89E5-4417BD3D6F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F776D9-0226-4040-B3FF-730DAFF59B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3DB1B-9615-4EEC-A4F7-98EF39AE0F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4355E-CCAA-49E8-B031-6D5BC33F1DE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4EF19-80E9-4687-BB2D-AEB1C7D640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6D6FA-6D29-471D-AE2D-F98088240F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90A95C-4A1B-45E9-BB82-4D81A386E1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9028C-CDE7-4309-AE45-33FD9C354A3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51DE7-E4B4-4DC1-9E61-5C72BF3802B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03B0EB-D8C8-4003-8927-E0BFE193C1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0A5A0-D4EE-4278-9CA0-530145FFC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CB525-1AFA-437B-B63F-AD85389F6C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00EA8-FB0E-44F6-A6A5-43E2CB722D3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1C43-B118-4985-8F72-1236757A266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4683-9AB0-4F4A-B36C-6274066F5A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52D6D-EB7F-4553-93F9-24411E27A7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CC97-E26E-4AFE-AB77-C58BBE3149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BEA1-CC45-49C9-8D26-4190DA07A2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C5EEC-5AD6-49F6-937F-149FBD0C0A5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0EB1-3CDE-4B2F-A073-18ECAA5468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BB87-1567-4D01-B349-9E06FFA973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DD15-AC41-4D38-8608-9BB551CD9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5B800-B449-43BE-9B7D-3DF58C0B4A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51B6-BB83-432E-A826-217FEB91E0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9AAA3-B48A-4426-A1BC-3849A097DB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D7CB-FBC3-4162-A763-43853C35B5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40587-83D7-4502-8662-F251C39C8A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20F30C-FBE7-4C9A-B410-CE990FB7AD6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8296A-ADA7-44FD-9223-859B809CE2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FC3E3-8816-4C1F-A44F-DCF3C828DBA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1C3A7-7EFE-4D0E-9653-7A76227A250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283515-6A83-47EE-BCA3-87825E2D2A8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1FB8F-30D5-407D-802C-6DAEA220A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0EA1-89C4-453B-B763-F1F8394F99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4C71-6840-4F05-B170-957A1CD6FB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7A6A2-C129-461C-926A-676B58CA45F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ECEA9C-E510-477F-9E96-6AEAFA355E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27C53-6DDF-4498-AF96-D753C8B144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F57ED-3187-4F3D-B120-A015CDC661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8CF1F-4309-4167-92E5-2EAB7977E5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458F8-C573-4884-83FF-3C3E446A341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8B4BB0-E510-4EF6-8BA0-3B2D22ACF6D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39FE3A-695A-41CB-8F19-FF085BC1FFD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8EA33-F122-4D27-B451-B76E6FFEB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945B-2084-45D5-B58D-706C553F0D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2BAE72-118B-46B4-96AD-B6CB4B1426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F380C9-2A1D-461D-A033-72CAFEBA4CF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28204-47B2-4FDA-98FC-B358506BEE7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F55EE-E7CC-444F-B408-2CF5A0A9E4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0A075B-2714-4101-AC01-27779E1B6B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72E89-16BE-4713-BB2F-F654F83B5B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47F3A-98B6-4218-AB18-2A23997770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D3985-C61C-4569-A97F-4C34EB0906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19360-1D29-4882-8834-AD7399C4F5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4F742-65C8-4132-8F9C-7EA1414EF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66E4-B79C-486A-810E-4BE06385CE3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A63-2BDB-4848-B1E1-2FC2E03F2C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24FA-9EAF-44C7-A9F2-7B9FB0AFEE8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C75-3E0E-4DA7-95B1-13CB3180755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BF9-972D-4D56-9B14-EDC6FD15695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519-C87D-4995-9E0E-AB821CE9932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AA0-D85D-4ABC-99CF-4F10E383947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6085-FCE7-49E3-B8CD-E2EC2D458D2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D545-B5FD-46D7-9867-D917776B776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CE31-04BC-478B-8A78-E278636AD8B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A46-F29F-4D12-A12E-DADFCA56000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D836-BB59-4D5C-9B3C-086E9F3BFFC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2A2-27F1-43A9-9976-2E8EFF6ED3B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FFDC-803F-4AE2-88D4-0BD6B3C831F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5320"/>
            <a:ext cx="8227800" cy="39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3 – SoA Maturity Model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3DE-1F1B-44FE-93BE-111E26D240F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ssessment Method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ain point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define the scop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figure assessment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ssess current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termine future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gaps and determine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oad ma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velop the final re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1354-BFBC-476C-B48F-AD34FF0F6F9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Increased Matur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45880" y="2234880"/>
            <a:ext cx="8669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lo (L1) to Integrated (L2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grated to Componentized (L3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nentized to Services (L4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s to Composite Services (L5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mposite Services to Virtualised Services (L6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Virtualised Services to Dynamic Reconfigurable Services (L7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1C3F-4860-4357-BF30-9D992DB4ECC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en used, it is required to eithe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ustain or improv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matur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turity levels , business dimensions, domains and indicators a product addr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as an individual product, managed service, software as a service or to enable managed service/SaaS provis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ystem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 auditable, continual, incremental and planne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mprovemen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of the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lp to determine th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each component and for the overall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st support the increased demands of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rporate Govern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mpli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F24-F794-42AA-AD97-2F4E8834D34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wo Simpl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um sized organization facing IT integration issues due to a series of acquisi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mall facilities management product development company facing increasing competition from SAP based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C19-EC11-4E31-860C-268457AF7B7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950B-B2EE-40A9-9A3D-E6554799848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SIMM is a comprehensive framework that is easy to adop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CC3-DE86-429A-9A73-447EA6D18EE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500-17BE-4095-863B-1D88CF9963A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oA Maturity Models and examine the Open Group’s Service Integration Maturity Model (OSIMM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an organisation can use a maturity model to plan the development of its own systems and/or products and to be more innova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77B-9F8F-40B1-ABAE-609301508FB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e are several such models available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y characteris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the ways in which SoA capability can be quantifi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flects the most primitive of starting points and optimal, aspirational finishing poi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430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dentifies incremental improvements which reflect technical and business need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0AF4-85DA-485A-810D-742BC14973A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Simple Maturity Model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651960" y="7886880"/>
            <a:ext cx="79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Sonic Software – http://www.sonicsoftwar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CEA-5BFD-448C-ADE3-CFBBF915988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6" descr="soa_maturity_pyramid_500w.gif"/>
          <p:cNvPicPr/>
          <p:nvPr/>
        </p:nvPicPr>
        <p:blipFill>
          <a:blip r:embed="rId1"/>
          <a:stretch/>
        </p:blipFill>
        <p:spPr>
          <a:xfrm>
            <a:off x="406440" y="2343240"/>
            <a:ext cx="8283600" cy="5251320"/>
          </a:xfrm>
          <a:prstGeom prst="rect">
            <a:avLst/>
          </a:prstGeom>
          <a:ln w="0">
            <a:noFill/>
          </a:ln>
        </p:spPr>
      </p:pic>
      <p:pic>
        <p:nvPicPr>
          <p:cNvPr id="650" name="TextBox 8" descr=""/>
          <p:cNvPicPr/>
          <p:nvPr/>
        </p:nvPicPr>
        <p:blipFill>
          <a:blip r:embed="rId2"/>
          <a:stretch/>
        </p:blipFill>
        <p:spPr>
          <a:xfrm>
            <a:off x="2914560" y="6900840"/>
            <a:ext cx="2054160" cy="474840"/>
          </a:xfrm>
          <a:prstGeom prst="rect">
            <a:avLst/>
          </a:prstGeom>
          <a:ln w="0">
            <a:noFill/>
          </a:ln>
        </p:spPr>
      </p:pic>
      <p:pic>
        <p:nvPicPr>
          <p:cNvPr id="651" name="TextBox 9" descr=""/>
          <p:cNvPicPr/>
          <p:nvPr/>
        </p:nvPicPr>
        <p:blipFill>
          <a:blip r:embed="rId3"/>
          <a:stretch/>
        </p:blipFill>
        <p:spPr>
          <a:xfrm>
            <a:off x="2481120" y="5834160"/>
            <a:ext cx="2955960" cy="4744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10"/>
          <p:cNvSpPr/>
          <p:nvPr/>
        </p:nvSpPr>
        <p:spPr>
          <a:xfrm>
            <a:off x="6761160" y="3035160"/>
            <a:ext cx="18097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6392520" y="4000680"/>
            <a:ext cx="2181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12"/>
          <p:cNvSpPr/>
          <p:nvPr/>
        </p:nvSpPr>
        <p:spPr>
          <a:xfrm>
            <a:off x="6438240" y="4965840"/>
            <a:ext cx="212976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6701760" y="6845400"/>
            <a:ext cx="189360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14"/>
          <p:cNvSpPr/>
          <p:nvPr/>
        </p:nvSpPr>
        <p:spPr>
          <a:xfrm>
            <a:off x="6146640" y="5880240"/>
            <a:ext cx="2482920" cy="45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Cost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TextBox 15" descr=""/>
          <p:cNvPicPr/>
          <p:nvPr/>
        </p:nvPicPr>
        <p:blipFill>
          <a:blip r:embed="rId4"/>
          <a:stretch/>
        </p:blipFill>
        <p:spPr>
          <a:xfrm>
            <a:off x="2712960" y="4797360"/>
            <a:ext cx="1109880" cy="71928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16" descr=""/>
          <p:cNvPicPr/>
          <p:nvPr/>
        </p:nvPicPr>
        <p:blipFill>
          <a:blip r:embed="rId5"/>
          <a:stretch/>
        </p:blipFill>
        <p:spPr>
          <a:xfrm>
            <a:off x="3029040" y="3919680"/>
            <a:ext cx="1866960" cy="65880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6"/>
          <p:cNvSpPr/>
          <p:nvPr/>
        </p:nvSpPr>
        <p:spPr>
          <a:xfrm>
            <a:off x="6870240" y="2120760"/>
            <a:ext cx="1684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5407-C418-4E70-BC89-A6B9EF7925E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Group’s SIM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System Integration Maturity Model i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odel against which the degree of service integration maturity of an organization can be asses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cess for assessing the current and desired degree of service integration maturity of an organization, using the mod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E8E-907F-4AF0-856E-CA16364FFA7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SIMM Maturity Lev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72849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7 – Dynamically Re-configurabl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6 – Virtualise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5 – Composi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4 –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3 – Componenti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2 – Integrat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vel 1 – Si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Up Arrow 5"/>
          <p:cNvSpPr/>
          <p:nvPr/>
        </p:nvSpPr>
        <p:spPr>
          <a:xfrm>
            <a:off x="8115480" y="2959200"/>
            <a:ext cx="253800" cy="453384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7462440" y="19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7551360" y="741672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16C-5396-41AC-9DAD-922FEE5C2E4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ganisational Dimens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6275880" y="2146320"/>
            <a:ext cx="15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6118920" y="7201080"/>
            <a:ext cx="187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Up-Down Arrow 10"/>
          <p:cNvSpPr/>
          <p:nvPr/>
        </p:nvSpPr>
        <p:spPr>
          <a:xfrm>
            <a:off x="6934320" y="3213000"/>
            <a:ext cx="241200" cy="3949920"/>
          </a:xfrm>
          <a:prstGeom prst="upDown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13A1-3DD1-4156-8DE6-736093CEFEC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omains &amp; Maturity Indicator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main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is a sub division of a dimension for which an organization can be measured for its SoA maturity and for which there are maturity indicators (or characteristic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maturity indicator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a measure that is assessed by the asking of specific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3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1E2-F5C0-4298-B7E8-C44FEF44E6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Maturity Model Matrix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325440" y="2298600"/>
            <a:ext cx="8420040" cy="5867640"/>
          </a:xfrm>
          <a:prstGeom prst="rect">
            <a:avLst/>
          </a:prstGeom>
          <a:ln w="0">
            <a:noFill/>
          </a:ln>
        </p:spPr>
      </p:pic>
      <p:sp>
        <p:nvSpPr>
          <p:cNvPr id="686" name="Right Arrow 5"/>
          <p:cNvSpPr/>
          <p:nvPr/>
        </p:nvSpPr>
        <p:spPr>
          <a:xfrm rot="19353000">
            <a:off x="252000" y="4890600"/>
            <a:ext cx="9705960" cy="60984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0:08:51Z</dcterms:created>
  <dc:creator>C Smythe</dc:creator>
  <dc:description/>
  <dc:language>en-US</dc:language>
  <cp:lastModifiedBy>Colin Smythe</cp:lastModifiedBy>
  <cp:lastPrinted>2008-02-19T11:08:18Z</cp:lastPrinted>
  <dcterms:modified xsi:type="dcterms:W3CDTF">2009-06-05T16:44:02Z</dcterms:modified>
  <cp:revision>258</cp:revision>
  <dc:subject/>
  <dc:title>No Slide Title</dc:title>
</cp:coreProperties>
</file>