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06E-9196-455A-9B65-33085633B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58F8-6DA4-49BD-A6DC-EB55D8ED3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BFAE-83E0-4FD8-8839-BDCD41416B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C0D1-3C11-4A1B-BCFD-6E7CA1955D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CE2-1538-4371-961E-6F46E09B13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54A-0188-407E-A519-9EC012ADDA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DE7B-1CAD-471A-BDEC-38D91A89B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FEE-41F1-4E3B-9816-86C42E95CA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D70-03CA-4DDF-B138-2938E9C1D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FE56-B750-43F8-9923-3FB4456BB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02D7-7E7C-4976-824C-5EBDD9D9E9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3149-BF71-4BBB-93F4-CC36239D43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4098-D45A-436E-B58F-9714698F4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AB20-0660-472E-9521-2DEBAB766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DA1E-B9E7-4F53-9EE2-116F81A2F5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2978-DF28-45C7-964A-E60D038541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F2D19-7B11-4B2E-A2D0-09E9352756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6A72-7CB7-486F-86B8-AA27BBC53B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CA1E-96AF-48D5-A49B-5996E26004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FED3-894A-40CE-943D-59A3AE42D4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22FF-F712-4F03-BC99-881CE37996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E806-7315-4AC0-A177-8606909514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DFE02-F509-498C-AB71-1351E6EFF0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AE84-6FEE-4773-9866-BF71A6BEFD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7CBE2-21E5-4133-92C9-45CFDC9A8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ED4B-E25C-401F-ABB7-8982F59720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9CDC6-551D-4833-9EB3-6903ECD013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8B813-8489-4BC7-AF5B-4A9BC2F1FC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21A25-7072-426B-B4BA-BE9137D0B5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08E97-7062-46AE-9E60-DF284A317D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ED2A7-3A37-4844-8CB4-A8FDBC5152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3467B-D79F-45F0-91D3-667C7382B9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5CF70-40AC-4EDA-92BC-694512B7A9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A3C76-6FF6-469A-B68B-7CC509C626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5CE73-05A1-4094-8B42-14C80ED679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1537D-A8DD-4D15-A1AE-8D44DC63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5D48-5DDB-4800-BBEC-E3141A3512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03943-4D96-4385-B866-3D91C2A938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4C8791-5A63-40EF-ABEF-DFDCF44BE0F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45E78F-A4F3-4D18-AEE0-CCB26AD427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662A4D-0A2E-44C1-92A6-D0472AEF9F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486CA6-827C-4684-97B7-4D8A7EA0D4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199C8-B8F5-4ED1-B559-F7CE3AE0A7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55CDA-625C-4B5C-9864-8A13B53C17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9DFE6E-7B3E-4215-B550-48328F196F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ED95E-ED05-4905-81F1-995DAB99DB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2E4F5-93F3-410C-8F62-C0081FAEC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AA828-6503-4C16-8F8E-D45ACC379C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08C3D-AEA1-465D-BD53-1A30CF3CEB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88FDCD-484F-44D0-A7E6-03DBF100402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C3C590-4250-493D-99B8-B0598CB814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D590-DCA7-444D-99B1-2BE9C24D70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CCF0-6CB1-4C4C-9B00-5845CEF014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AA2C-32CC-4CE3-9B4A-56649C3AE8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F161-2BA5-43D4-9CFA-ED87F88238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1E0F-6637-44E8-92F8-5603822248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3659-C6A2-4550-9C23-8A45514B23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C687-B719-4897-B984-3CE7B9B42C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3BD4-B4E2-4978-9EAC-C0874792E53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3D80-FAE3-465A-A1E2-B003D70A6D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B4CE-0EF4-42BB-BE90-DD3691F95C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0B18-A340-4B19-8683-C09317FB2D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C532-5332-4A12-AC60-EFBF69E4B1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048B-2199-409E-BB91-1F706CE241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1BA075-1442-4EF6-AFD5-C4DF22F789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4C871-763C-4444-8932-0AAF4DBD4D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53741-CB1D-4B50-BE4D-96E6C7B239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4AFA4-169A-413A-B16A-59E1B1B4402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5E0FF-62FA-4AE5-B9AE-5B5F800E0D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FE9B1-5952-404B-A735-485383E5C4C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82AD5-1984-4849-910E-B00DF60960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E6102-84E1-494C-A4DF-8D4FB4F6DA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6FA0C-1713-4F7C-826F-14446A6BEF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91AB4-DF6D-43B3-AB1B-EA499D4E531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F4DCB-354A-4050-BD93-D4C3F219D2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BC514B-3538-40B9-97F7-4ABD3948C1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1BEF7-5573-4D97-A666-628FED5F6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507A6-6EFA-401A-9695-398A9F9A1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82C6-4A4F-4CD6-B0DD-39292CFA98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84EF-D972-4305-90D4-97782B461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E7906-7284-4A37-AE78-5633315D1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B156-4AC0-4317-9341-C304CC608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CF027-796E-4C84-86F1-15B1A1257E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93968-4A3D-4A49-9BD6-00F93F1949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6112-E9E0-4C53-BCD5-FF6EEAB18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E3ED2-F26E-4EB6-88BE-04F126701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A9E6-EECF-4618-ACE2-4E3F742514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72BD-03DB-47ED-AA46-9320F74139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2350-9F04-4843-9ABE-34265EBB87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79D-5AC5-4462-A355-16C7B175DF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CDC-91FF-4DA4-87FA-100BCDABB1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214-C1CE-4CD0-942B-1934912C4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D8F7-11F6-498E-8249-AD27D1324A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C0A-2386-42E1-BA41-424B09D580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599A-5ABA-4B57-99EE-58C59AD3E4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BBBB-AF38-471B-99AA-E2F4AEB9C1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1B7C-B197-4600-91D5-9399DB1D30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D333-74BD-447E-807B-5A35ECAD68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69AF-E18D-4C21-9212-15F9AB681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6A3-C2A4-4771-94E1-B06BF2CE42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E2086-01B6-40BD-AC54-B2F711EE48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0F984-BD17-48D4-95B8-2900778777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1F218-C130-441E-8C6F-EF4046A33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567F-4853-418D-B2E5-A08FC521A1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71A37-8E97-4700-AFE2-B97AE32606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D799B-1671-4C71-8B86-272447EC6C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E2DAF-943C-4DAB-B5E9-B131F066D9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023A8-673C-4D00-A333-BBC39ACEA1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F5F0C-F642-43C1-8682-70307F3DF8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6D83A-C806-4663-A9A8-B836CDFFEE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939B6-0F93-4196-8A14-2C5020BC22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43328-5B2C-4C1B-B666-D82E91D6C6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B0697-C0CA-472C-BC50-BE20ADA88A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A7D6D-508A-4978-B8A0-9EA849E1B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4F45-EDD2-434C-9AB9-8B352D2BB9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A8E12-7EFF-4530-AAA5-E7DF9D167B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B54B8-B9FF-440F-AA37-807548559B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CC7B0-5988-4610-A9DD-1424B46BC5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77B17-2242-4536-AE2F-C6B59FCB91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4CE23-5BCE-4124-8D43-B82D0D6716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A46A2-A675-4950-876A-B19ABEFC3C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F1D53-EA61-4938-A52B-EE54928590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D3257-0F94-485B-AAF4-CF74162E98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1D1BD-C2C3-4E30-9F51-1B22C0E6BF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2EB16-7C62-4C5F-A498-630DB700F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6D72-1677-4CDA-9A36-1F6676756F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58F37-AD71-4C6B-ACF6-6CE17970CD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E371-876D-43F9-84D5-56793D897D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E0B8-11D7-4501-8786-937679D094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7E19-F3AC-43AD-AA97-375E35810F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BE88-A0E0-47BF-BBC5-AC39046BBA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7CA8-925D-444A-AB75-22A6BDEACB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0287-EF36-41AC-A491-3D2DE8B3D4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43DE-299B-4797-B084-BB09465356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5255-4EEE-4BA6-884D-83594A3196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136C9-ED82-4435-8402-9017EF0CE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0A35-4EC6-4A66-8E96-DEDD0FE134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A34E-B63C-4977-A4E6-4545484A58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7D2C-64B5-44E2-96D1-1DAB962D83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0C7F-5936-418B-B447-814BFC311C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717CB-8E87-4210-BAD2-10CBE7B0A8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D6299-D99B-4B24-BB60-9E43DEAD79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2DE5D-23C4-4E8A-A5D1-883D4C92A9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00890-EA1F-47CB-BDF8-83029DA3DA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95125-2174-4432-A686-38F8FA31F4D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96AB4-D9E0-4364-9687-64FA504BF0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6BA99-13D2-4DFD-B0BE-669C888B0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E4B7-A277-44EE-B514-988C8FDE91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496E3-88F9-4698-9195-4D9768D28A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548EA-C2B3-4A2A-ABA6-E81438D0A2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6BF91-11D4-434B-BF02-B19E5701C3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9842D-E3A8-4EE9-A691-7C40723CE8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0BF17-F564-4A8F-B7EE-3532342D35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0320D-ACEA-4B5D-A6CC-412B068B33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72FC6F-AFAE-4723-9734-B9D197B18D3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3921FC-2ED2-4A63-B137-FEEB694975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EACA27-2A94-4168-88B0-DFA1A8C52B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D3D949-1388-4785-8C67-35978D3B6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25F2-4887-4367-9B7F-488FCC2FB3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63D5C-418B-4A78-A55A-4EB9053F84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6899C-3049-44C0-8556-0A7716ED32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9A95E-7549-48AC-9256-B73FBDB2858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CA5D6-E979-4BDE-BF46-72C4CF8F65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8BC7B-E717-4D92-B8BD-D145380B06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D8EC1-C14A-4ACE-B13C-5D257070D8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77DE9-3F95-4174-9226-212480E99EF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8D06-5D2C-46CE-A9A0-EB0782895A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6CF1-8A07-4A0E-A911-1BDF658B65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662CB-3B68-4D67-857B-08372CCA3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F2C5-7D7D-4AE0-B154-1A639977BA6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319F-D371-4DF9-9C8B-8146162473F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77D-863E-4831-AC76-090DC1DFAFF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520-700B-419F-BEB8-74338D7B62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B74-2450-4210-BC08-726F44F7D3A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450-3DD9-41DF-8293-7C044C8BDB3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B43-9819-47D8-864D-252E398F4AC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628-C893-4328-AB20-DDF431543BD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2D4-E715-4259-AB1E-73EBDC4B40E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2575-6476-4C3A-8A5E-93D7297191F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7314-C3F9-4287-9B61-7008BB99350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6264-91C6-45FE-8880-1EABE2BD25A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0E8-6960-4310-A651-57B2AD2A3F1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EF1-8AB2-4E41-9384-FE15E54997A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4 – Enterprise Integration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931-DC29-4C99-B7CC-284CC1D504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826272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B is a middleware solution that enables interoperability among heterogeneous environments using a service-oriented model, and it represents the consolidation of the EAI and application server product catego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many implementations of the ES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B0B-C1EF-4306-B1E3-C3E241C5891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Produc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74480" y="206964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st support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stributed authentication, authorisation and access contr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figurable workfl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rule and information semantics mapp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roperability through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ative service interfaces e.g. Web Service ba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adapters e.g. ESB-adap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F16-D43C-4C57-BC8A-7052B096ECF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Syst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ed a clear set of information seman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information where and when it is need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a combination of common services and domain-specific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be changed with minimal new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ypical EAI Scenario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iversity and FE Colle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ducation for thousan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rehouse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st in time supply cha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cilities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S Connecting for Healt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tale of wo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847-93B2-4C0C-9B4A-13AB8729749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voiding Deployment Probl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services that improve manage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 security, access compliance and audit contr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-to-end monitoring to detect, isolate and fix services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sure flexibility to adapt and track changes through tre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services in a business context or in terms of SL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 the virtualization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A70B-430F-4043-99F9-24A4FFE0D72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D6F-D088-477C-95E7-D1AB068B883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65FF-592C-4C40-B8C8-4D7FB25D771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520" y="2234880"/>
            <a:ext cx="8356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oA fits into Enterprise Architecture frameworks and how legacy can be addres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some of the business issues including governance, and business and technology mi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some typical scenarios for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42DB-BC8D-49F4-B0C6-93E33FA219C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DE1-9CB3-465A-87B5-D38F05D64C2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ervices and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ites (inc. transnatio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cess and personal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chain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gulatory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648-4CE3-4181-BFAF-3A0A662D620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A Framework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6" descr="600px-Architectural_Levels_and_Attributes.jpg"/>
          <p:cNvPicPr/>
          <p:nvPr/>
        </p:nvPicPr>
        <p:blipFill>
          <a:blip r:embed="rId1"/>
          <a:stretch/>
        </p:blipFill>
        <p:spPr>
          <a:xfrm>
            <a:off x="304920" y="2122560"/>
            <a:ext cx="8551800" cy="38336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584280" y="5867280"/>
            <a:ext cx="7924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pen Group Architecture Framework (TOG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stry of Defence Architectural Framework (MOD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chman Framework – from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317520" y="4572000"/>
            <a:ext cx="8521560" cy="1320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C46-E1CC-4233-9661-E42928D8111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ddressing Scale &amp;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ywhere, anytime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inding resources, tools, applications an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nagement, maintenance and repor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law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nintended consequ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ystem and service reliability and avail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881F-8330-40A9-B6E3-306980594D3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T/SoA Governanc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1650960" y="2273400"/>
            <a:ext cx="5829480" cy="5829120"/>
          </a:xfrm>
          <a:prstGeom prst="ellipse">
            <a:avLst/>
          </a:prstGeom>
          <a:solidFill>
            <a:srgbClr val="cbcc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409840" y="3032280"/>
            <a:ext cx="4311720" cy="4311360"/>
          </a:xfrm>
          <a:prstGeom prst="ellipse">
            <a:avLst/>
          </a:prstGeom>
          <a:solidFill>
            <a:srgbClr val="7dcc4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3205080" y="3827520"/>
            <a:ext cx="2720880" cy="2720880"/>
          </a:xfrm>
          <a:prstGeom prst="ellipse">
            <a:avLst/>
          </a:prstGeom>
          <a:solidFill>
            <a:srgbClr val="7fa7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TextBox 13" descr=""/>
          <p:cNvPicPr/>
          <p:nvPr/>
        </p:nvPicPr>
        <p:blipFill>
          <a:blip r:embed="rId1"/>
          <a:stretch/>
        </p:blipFill>
        <p:spPr>
          <a:xfrm>
            <a:off x="2749680" y="2425680"/>
            <a:ext cx="3632040" cy="2189160"/>
          </a:xfrm>
          <a:prstGeom prst="rect">
            <a:avLst/>
          </a:prstGeom>
          <a:ln w="0">
            <a:noFill/>
          </a:ln>
        </p:spPr>
      </p:pic>
      <p:pic>
        <p:nvPicPr>
          <p:cNvPr id="661" name="TextBox 14" descr=""/>
          <p:cNvPicPr/>
          <p:nvPr/>
        </p:nvPicPr>
        <p:blipFill>
          <a:blip r:embed="rId2"/>
          <a:stretch/>
        </p:blipFill>
        <p:spPr>
          <a:xfrm>
            <a:off x="3224160" y="3309840"/>
            <a:ext cx="2689200" cy="15368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15"/>
          <p:cNvSpPr/>
          <p:nvPr/>
        </p:nvSpPr>
        <p:spPr>
          <a:xfrm>
            <a:off x="3399840" y="4572000"/>
            <a:ext cx="22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82A2-A88A-485E-90FD-799B6E272C9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volution from a Legacy Syste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85800" y="7170840"/>
            <a:ext cx="6197760" cy="58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  Monolithic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85800" y="6586560"/>
            <a:ext cx="6197760" cy="58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Integr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130400" y="6002280"/>
            <a:ext cx="5753160" cy="584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Provid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1562040" y="5418000"/>
            <a:ext cx="5321520" cy="584280"/>
          </a:xfrm>
          <a:prstGeom prst="rect">
            <a:avLst/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Consum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994040" y="4834080"/>
            <a:ext cx="4889520" cy="583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Expos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2425680" y="4254480"/>
            <a:ext cx="4457880" cy="58428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Consum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2857680" y="3675240"/>
            <a:ext cx="4025880" cy="583920"/>
          </a:xfrm>
          <a:prstGeom prst="rect">
            <a:avLst/>
          </a:prstGeom>
          <a:solidFill>
            <a:srgbClr val="47ff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Orchestrat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3289320" y="3090960"/>
            <a:ext cx="3594240" cy="584280"/>
          </a:xfrm>
          <a:prstGeom prst="rect">
            <a:avLst/>
          </a:prstGeom>
          <a:solidFill>
            <a:srgbClr val="006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 Build Com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7040520" y="3090960"/>
            <a:ext cx="1824120" cy="17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7040520" y="4851360"/>
            <a:ext cx="1824120" cy="1719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7040520" y="6570720"/>
            <a:ext cx="1824120" cy="61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Straight Arrow Connector 19"/>
          <p:cNvCxnSpPr/>
          <p:nvPr/>
        </p:nvCxnSpPr>
        <p:spPr>
          <a:xfrm flipV="1">
            <a:off x="342000" y="3047760"/>
            <a:ext cx="2603520" cy="3518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8" name="TextBox 20"/>
          <p:cNvSpPr/>
          <p:nvPr/>
        </p:nvSpPr>
        <p:spPr>
          <a:xfrm rot="18462600">
            <a:off x="-465480" y="4230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h of P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E79-0C31-43AB-9369-AC7C3C7499B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ncreasing SoA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2" name="Oval 5"/>
          <p:cNvSpPr/>
          <p:nvPr/>
        </p:nvSpPr>
        <p:spPr>
          <a:xfrm>
            <a:off x="998640" y="286560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27144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7"/>
          <p:cNvSpPr/>
          <p:nvPr/>
        </p:nvSpPr>
        <p:spPr>
          <a:xfrm>
            <a:off x="2916360" y="3301920"/>
            <a:ext cx="583920" cy="58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268452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9"/>
          <p:cNvSpPr/>
          <p:nvPr/>
        </p:nvSpPr>
        <p:spPr>
          <a:xfrm>
            <a:off x="3919680" y="331488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3424320" y="2451240"/>
            <a:ext cx="58428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2"/>
          <p:cNvSpPr/>
          <p:nvPr/>
        </p:nvSpPr>
        <p:spPr>
          <a:xfrm>
            <a:off x="3500280" y="3594240"/>
            <a:ext cx="4194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15"/>
          <p:cNvSpPr/>
          <p:nvPr/>
        </p:nvSpPr>
        <p:spPr>
          <a:xfrm flipH="1" flipV="1">
            <a:off x="3922200" y="2949120"/>
            <a:ext cx="289080" cy="36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29"/>
          <p:cNvSpPr/>
          <p:nvPr/>
        </p:nvSpPr>
        <p:spPr>
          <a:xfrm>
            <a:off x="622296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1"/>
          <p:cNvGrpSpPr/>
          <p:nvPr/>
        </p:nvGrpSpPr>
        <p:grpSpPr>
          <a:xfrm>
            <a:off x="5557680" y="2405160"/>
            <a:ext cx="3116520" cy="1473120"/>
            <a:chOff x="5557680" y="2405160"/>
            <a:chExt cx="3116520" cy="1473120"/>
          </a:xfrm>
        </p:grpSpPr>
        <p:sp>
          <p:nvSpPr>
            <p:cNvPr id="692" name="Rectangle 40"/>
            <p:cNvSpPr/>
            <p:nvPr/>
          </p:nvSpPr>
          <p:spPr>
            <a:xfrm>
              <a:off x="5557680" y="2405160"/>
              <a:ext cx="3116520" cy="1473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32"/>
            <p:cNvSpPr/>
            <p:nvPr/>
          </p:nvSpPr>
          <p:spPr>
            <a:xfrm>
              <a:off x="570132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33"/>
            <p:cNvSpPr/>
            <p:nvPr/>
          </p:nvSpPr>
          <p:spPr>
            <a:xfrm>
              <a:off x="64468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34"/>
            <p:cNvSpPr/>
            <p:nvPr/>
          </p:nvSpPr>
          <p:spPr>
            <a:xfrm>
              <a:off x="71920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793764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36"/>
            <p:cNvSpPr/>
            <p:nvPr/>
          </p:nvSpPr>
          <p:spPr>
            <a:xfrm>
              <a:off x="570132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37"/>
            <p:cNvSpPr/>
            <p:nvPr/>
          </p:nvSpPr>
          <p:spPr>
            <a:xfrm>
              <a:off x="64468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38"/>
            <p:cNvSpPr/>
            <p:nvPr/>
          </p:nvSpPr>
          <p:spPr>
            <a:xfrm>
              <a:off x="71920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39"/>
            <p:cNvSpPr/>
            <p:nvPr/>
          </p:nvSpPr>
          <p:spPr>
            <a:xfrm>
              <a:off x="793764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ight Arrow 42"/>
          <p:cNvSpPr/>
          <p:nvPr/>
        </p:nvSpPr>
        <p:spPr>
          <a:xfrm>
            <a:off x="2044800" y="28828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ight Arrow 43"/>
          <p:cNvSpPr/>
          <p:nvPr/>
        </p:nvSpPr>
        <p:spPr>
          <a:xfrm>
            <a:off x="4711680" y="28954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3403440" y="5321160"/>
            <a:ext cx="508320" cy="5083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5"/>
          <p:cNvSpPr/>
          <p:nvPr/>
        </p:nvSpPr>
        <p:spPr>
          <a:xfrm>
            <a:off x="3924360" y="62866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6"/>
          <p:cNvSpPr/>
          <p:nvPr/>
        </p:nvSpPr>
        <p:spPr>
          <a:xfrm>
            <a:off x="2895480" y="62992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traight Connector 47"/>
          <p:cNvSpPr/>
          <p:nvPr/>
        </p:nvSpPr>
        <p:spPr>
          <a:xfrm>
            <a:off x="3657600" y="5829480"/>
            <a:ext cx="520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traight Connector 48"/>
          <p:cNvSpPr/>
          <p:nvPr/>
        </p:nvSpPr>
        <p:spPr>
          <a:xfrm flipH="1">
            <a:off x="3149280" y="58294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5"/>
          <p:cNvSpPr/>
          <p:nvPr/>
        </p:nvSpPr>
        <p:spPr>
          <a:xfrm>
            <a:off x="990720" y="533412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6"/>
          <p:cNvSpPr/>
          <p:nvPr/>
        </p:nvSpPr>
        <p:spPr>
          <a:xfrm>
            <a:off x="1511280" y="629928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7"/>
          <p:cNvSpPr/>
          <p:nvPr/>
        </p:nvSpPr>
        <p:spPr>
          <a:xfrm>
            <a:off x="482760" y="63118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traight Connector 58"/>
          <p:cNvSpPr/>
          <p:nvPr/>
        </p:nvSpPr>
        <p:spPr>
          <a:xfrm>
            <a:off x="1243800" y="5842080"/>
            <a:ext cx="520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59"/>
          <p:cNvSpPr/>
          <p:nvPr/>
        </p:nvSpPr>
        <p:spPr>
          <a:xfrm flipH="1">
            <a:off x="736200" y="58420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0"/>
          <p:cNvSpPr/>
          <p:nvPr/>
        </p:nvSpPr>
        <p:spPr>
          <a:xfrm>
            <a:off x="216000" y="7035840"/>
            <a:ext cx="20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61"/>
          <p:cNvSpPr/>
          <p:nvPr/>
        </p:nvSpPr>
        <p:spPr>
          <a:xfrm>
            <a:off x="2637000" y="7035840"/>
            <a:ext cx="21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2"/>
          <p:cNvSpPr/>
          <p:nvPr/>
        </p:nvSpPr>
        <p:spPr>
          <a:xfrm>
            <a:off x="60706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3"/>
          <p:cNvSpPr/>
          <p:nvPr/>
        </p:nvSpPr>
        <p:spPr>
          <a:xfrm>
            <a:off x="63374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4"/>
          <p:cNvSpPr/>
          <p:nvPr/>
        </p:nvSpPr>
        <p:spPr>
          <a:xfrm>
            <a:off x="58294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65"/>
          <p:cNvSpPr/>
          <p:nvPr/>
        </p:nvSpPr>
        <p:spPr>
          <a:xfrm>
            <a:off x="623484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66"/>
          <p:cNvSpPr/>
          <p:nvPr/>
        </p:nvSpPr>
        <p:spPr>
          <a:xfrm flipH="1">
            <a:off x="5994360" y="6172200"/>
            <a:ext cx="2412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6858000" y="523224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7124760" y="58546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661680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73"/>
          <p:cNvSpPr/>
          <p:nvPr/>
        </p:nvSpPr>
        <p:spPr>
          <a:xfrm>
            <a:off x="7023240" y="5562720"/>
            <a:ext cx="26640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74"/>
          <p:cNvSpPr/>
          <p:nvPr/>
        </p:nvSpPr>
        <p:spPr>
          <a:xfrm flipH="1">
            <a:off x="6781320" y="556272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5"/>
          <p:cNvSpPr/>
          <p:nvPr/>
        </p:nvSpPr>
        <p:spPr>
          <a:xfrm>
            <a:off x="76834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79502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77"/>
          <p:cNvSpPr/>
          <p:nvPr/>
        </p:nvSpPr>
        <p:spPr>
          <a:xfrm>
            <a:off x="74422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78"/>
          <p:cNvSpPr/>
          <p:nvPr/>
        </p:nvSpPr>
        <p:spPr>
          <a:xfrm>
            <a:off x="784800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traight Connector 79"/>
          <p:cNvSpPr/>
          <p:nvPr/>
        </p:nvSpPr>
        <p:spPr>
          <a:xfrm flipH="1">
            <a:off x="7606800" y="617220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80"/>
          <p:cNvSpPr/>
          <p:nvPr/>
        </p:nvSpPr>
        <p:spPr>
          <a:xfrm>
            <a:off x="5799240" y="7035840"/>
            <a:ext cx="249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Organisations/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ight Arrow 81"/>
          <p:cNvSpPr/>
          <p:nvPr/>
        </p:nvSpPr>
        <p:spPr>
          <a:xfrm>
            <a:off x="4775040" y="535932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ight Arrow 82"/>
          <p:cNvSpPr/>
          <p:nvPr/>
        </p:nvSpPr>
        <p:spPr>
          <a:xfrm>
            <a:off x="2184480" y="53722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positories &amp; Registr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153-2795-488B-9E24-50A7916DB19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positori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used to store assets such 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DL, XSD  and BPEL fi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ce policies and meta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ries are used to store references to the IT services themsel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ystems rely upon federated resour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39:29Z</dcterms:created>
  <dc:creator>C Smythe</dc:creator>
  <dc:description/>
  <dc:language>en-US</dc:language>
  <cp:lastModifiedBy>Colin Smythe</cp:lastModifiedBy>
  <cp:lastPrinted>2008-02-19T11:08:18Z</cp:lastPrinted>
  <dcterms:modified xsi:type="dcterms:W3CDTF">2009-06-10T20:31:28Z</dcterms:modified>
  <cp:revision>271</cp:revision>
  <dc:subject/>
  <dc:title>No Slide Title</dc:title>
</cp:coreProperties>
</file>