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C18D-3F98-49E3-96F1-7680B7FD7C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E260-4011-4AA1-8209-A04DEA1121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2AE6-BDFA-459A-90E1-277911F847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A502-53F6-4EB8-ACDB-44BF511910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4CDF-9C11-4271-8C79-29F066B303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BC6E-61D7-4051-8155-BEBE2423AC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4C62-5B26-487E-8F16-8B7C343683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3270-BD50-44CE-AE4A-D66EFA5D63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8655-3304-42B5-A4CD-C76DE9FF98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5C03-B531-4C0B-B405-615D1D066D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E4C1-26C5-4590-A3C8-CBB8EEB10B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CB74-3DF4-4DDA-B30F-C461A67881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40FB-0312-4D98-B41A-4F3CCA8D31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A40D-B1EC-4047-BA65-537821F47C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2F03-ED5F-4966-994A-3F39CAB8F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4BE0-BA32-4C58-B242-D091751B7E9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A14AE-3B23-4B12-840D-50C758C1386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CC16F-44DB-4D4C-A3DC-D7C5F4930A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78DD-9C9B-43C4-8366-784C4AB3089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73B39-824C-4B22-99BC-995030C79A9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9C56A-C016-4636-8FF9-905F515EAEF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6BDA1-3E41-46F3-910E-903CEBE23B6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0C181-28C9-471D-9F3C-A8DD12C5306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8FD8F-20EA-4BB5-BC99-8264DBC4F06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E9F81-B867-499F-80AB-C1404CFEF20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CAE53-1556-4407-ABAE-46355751C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33D9-B461-4268-8A41-35EF333C078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9E966-1C84-4D1E-B6A1-A531F5B8B3F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13773-8D8C-4B24-ABF8-FDE307F79D8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A8CE9-9A81-476B-8BF4-F3C7ADF1CA9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9C071-1D30-4EB3-A185-57660E2286F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9D862-515F-4D7D-8305-B856B4B8622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E1355-338A-4422-BFCE-94533D59C4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4C330-93D2-4C25-92B7-28201252D8F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CC3F8-3356-41D3-9477-A9AD3CE58D0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6BA46-79CA-4918-AD57-6D74E15CEC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546269-6C0E-46E6-841C-8430D1EE4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A6C3-9500-4A22-B2DD-EEAF7BEB5ED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39F58-AB75-411C-A0C5-387CDC8C052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F80942-BB9D-4716-B3A9-A9B64DD83BB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483AD6-32E1-4C92-8E88-4A0CF8CD25C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FD6C8D-B14B-474D-90F7-DC30487EE3D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BB24B0-0035-48E7-A6EE-522968D8726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2658CB-ACC9-4BE3-9D38-27DB73B31B0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8D4442-FCA7-4F31-B957-A8FD8B0D588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C95B4F-9571-4FC0-9CBA-D4B41817D19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2021AF-B062-4A64-9008-92392FC6E13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7A5D9C-A80F-4116-BC23-AF9041EB1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5A2C5-D3FF-4FE5-82DA-5ADC4A7FA0C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045B9D-14E6-4CE6-872A-26F09028E5D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F1478E-D333-4B8C-851E-717B1547129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FF6B12-14B9-47F7-8F78-8779A2541F7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40BA3-50CB-4AFC-A487-FBD23173AC2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1F1FD-34DB-4645-9594-2E1B6642286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B663D-FBAA-479A-96AA-260A52C37FC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225C2-FD9D-4538-A423-F22CCE8D152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74E0D-3D53-4E7B-AFA7-118459E3038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48910-E321-43B1-8E19-B96EEE5EFD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9A600-604E-4251-B918-F66FF1CC35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F3825-D919-4C51-9B8A-8CE82BE736D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DD076-3E85-4E9E-A4E1-BC28B779818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AB4D9-D1A9-43FF-879E-A5B0667B90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878F1-766B-4317-9492-11062C8BBFE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65FA3-D2C3-4956-8C35-170809C8D3A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73D1F-F841-4E37-8120-0FA52FC6A4B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EDE2A1-F720-44C4-BFC3-E4D4444E767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18D43-D614-4A51-8DD7-0FDD5936058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57FB03-5673-4FC9-A1A5-56BD12F67EB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6676D0-F74A-4B76-8839-569D1B47E49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920E60-92BD-48AC-8403-B9F8215F0D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AAE7E-844E-441F-9864-B98F36B0C80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6CD6FD-D97A-4E2B-85F4-60151A0522B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623392-7CB7-4F8D-9161-741D6DB0815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52851B-991E-46CF-94D6-4687ACEC399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D2208-477D-4E3D-A3B7-E47EF489088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170919-E023-467D-A44D-C0158782B67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2BD1FB-4E6D-4D95-9865-7826F10DD99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D33EF5-53D6-451F-A349-B14B205BBB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120AD-5940-4BC1-AEEF-409AE0C583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7929D-4BAE-430C-8D00-71CF504A3B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9A172-0679-428E-A8F0-444EA75BE7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18FAB-E51A-413B-B18E-5732BFD964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8C27-352B-49D6-AA7B-73811E74E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58E79-78A5-45EE-8AD8-1BA32730A5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D612C-B22C-42BF-ABDA-D71EA32D2A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A42B0-BD91-4121-834C-FE85CE724A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BEAC8-5080-49AF-BC20-88CAA6BAD9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A1C7D-2D1B-45A9-8F5A-6464F79217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3807-D15A-497A-A330-8EE1C2A7CB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D120-A46D-4769-8DFE-CCD977C574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3490-8620-45CD-B254-F57B8D7BB4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B538-C2EA-48F5-A0EB-2CBB1FEBBB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34F6-29EE-4510-B092-CB6F7A23E2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16AF-99EF-4185-BD92-3687D90A9C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49A7-C9DC-4845-9CB2-B8A8779F46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712E-9B75-47E9-8883-22D98BFF47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7764-B9DD-44D0-9B9D-872E88A9C8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1DCF-4057-4C1C-9D7A-2AEC6425DC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B170-8C82-4156-B637-0AB4D2F992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D688-C719-4BFE-ADC4-73B81C1685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F141-99A2-4FFD-AD93-82F3693FC2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7C3C8-2D00-4ACC-B36B-97372C06E2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2880A-3CF7-4B34-A0F7-D2C3B37D2E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04EE2-8501-45A8-81B3-FFAEEC4AD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BF27-6E5D-4DEF-B6E2-AE2C81ED9E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AC666-8FA8-4F0D-95B4-93CFE95BC8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5622A-7562-4E71-9364-DF9BB1480D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5278D-820D-4FD9-B927-0EC7C93447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0BCAF-F47E-4EEA-AC7B-A59A810B24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72821-7389-4CC0-86DC-1171A84819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A8602-7DF7-4D3B-921E-FD02E5A046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5F9B3-297D-4910-972E-0A77BFCF17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3F6B7-8EEC-4DB7-AB7A-671F163974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44903-3395-4703-BEF9-CBFE7FF540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DF4B0-CE92-4075-8712-48D917093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8134-8B7A-4AF3-B6BB-DE4AF9F16A8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AF452-D615-4399-ACF8-AE21B9A21A0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18C478-EC8E-4A54-B875-D04696B4870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4ABA5-2AB4-4039-87CB-95427F846AA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A164A1-9BBE-4340-8A34-42888FE970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A5FFF-E42B-44CB-8E15-3C5B5891F7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BA9F5-DE8E-487C-A8D0-C15537FABB5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750D36-835B-4482-9801-C2D1F6AA1FE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22D8E-487F-4C76-9BAA-3820FE504D6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E0385-AF34-48E6-A021-47A509EDD6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A5BA4-C04C-46E8-AE6D-79D0BD7BA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FBAB-40B1-4778-B939-7C43505026D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1B6AD-123E-4BF8-9FA4-9ACDDCA5520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BFAB7-0B39-4BFD-9EDB-372A133E64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BA6A2-65EC-4F44-A450-05EB5C69DB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6F778-0C68-40B1-B1C8-28B327B9BF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5F9A-06B6-46C5-B28A-9712C7D69B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1C56D-37E3-445A-9A90-B9A9A3FD1E8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6A9D-49B7-418F-9369-855E236A654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AF198-80AB-4181-A054-B1379E13899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F8969-BF7A-4FB0-8087-30C103E249D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FF4B6-BF28-4484-B5CF-752F1A237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B45B-CFD9-4970-85D8-3EDE8110DE3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A67D-D326-4B8E-B154-C0A65736F1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57156-88DB-48DB-BECA-195E192A23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7A3D-8077-4220-9842-39DF4C98561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7081E-C85B-4804-9168-F25E5CE15B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6C352-9D10-4F77-A278-7823031C4E2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EB0A9-88D0-43A4-9CE5-38D315BC26E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95DAE-839B-427A-952F-D5C6B25D75F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BB6F9-40C3-477D-84A9-E399978E50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9FF05-4B12-48B1-818B-BA22F657C1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0FE6B-1863-48D4-931C-9D0E5EC7E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DCF3-DF61-418C-8A96-2841D34FAC6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1C97E-A663-459E-BE8F-A23A45FA9CE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F9AF4-3938-46E9-A1BE-614AFB599F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3D5AF-9459-45AC-B705-02F3906054A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E6E33-5D3C-4EF9-BDF1-18A1F4CB126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76111-4A51-487E-896C-0466948763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13C982-FABE-4B2C-9541-CDE88DBAA6B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189C99-27A6-4C32-8218-66B0CE04B5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6A418A-58AE-432E-BF0F-E3BA0A618E9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78DC09-E383-4C11-BC8B-1EF817C5E30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FCC058-F45A-4257-A64D-3F2E00443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0495-FD5C-4446-A15A-3E169771CDB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43AD65-0690-43C3-8435-1112B7A5908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591E58-AE0B-4449-A0CD-DE75F99668C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E06D92-E539-4AE2-8755-92914CCFB0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809614-204D-416C-951E-158EF8E7D22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CF75E1-98A5-4DF7-9FB5-8D6798747AD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2E434B-4F2E-4C8B-B1BD-F09413C12E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FF8860-6CFB-4DFD-BB0D-C1D3546ACF5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478A5-D9A8-4A4A-ADCD-8195628E9B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BED88-A28C-4C34-AF21-1B0ECF54487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6314-462A-4B3E-8B75-0ECC7CA89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7412-3B4F-43B9-A6AE-B1AB43C5985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1D26-37D3-4865-A91A-74F54BBB421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551B-3B79-453B-A3A7-BA6CB603478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EB01-6781-462E-981B-D4081661DEB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5928-7EAB-4632-83F7-4469D03D896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B721-E1C2-489D-B0D4-EB3455572CA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2551-709D-441E-86BA-E43AA658BF60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EDE0-CFFF-4946-9F96-FD9ED095D76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5CCF-7C9C-4E58-B8EF-7AB1501FE10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1F43-9DC5-4789-9A59-817EF04E322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2C08-15BB-47C2-A8C7-076A666170A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6C75-2577-4849-B5BB-744D0877BE1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3C87-8C0E-4686-BD1A-ECD36188CF6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25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502-0A8A-4A79-803D-344D820DAE1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5 – Case Studies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833D-E428-4E88-ABEF-FA2B79A5550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he New Architectur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800" name="Group 10"/>
          <p:cNvGrpSpPr/>
          <p:nvPr/>
        </p:nvGrpSpPr>
        <p:grpSpPr>
          <a:xfrm>
            <a:off x="1549440" y="4906800"/>
            <a:ext cx="2197080" cy="1024200"/>
            <a:chOff x="1549440" y="4906800"/>
            <a:chExt cx="2197080" cy="1024200"/>
          </a:xfrm>
        </p:grpSpPr>
        <p:pic>
          <p:nvPicPr>
            <p:cNvPr id="801" name="Picture 11" descr=""/>
            <p:cNvPicPr/>
            <p:nvPr/>
          </p:nvPicPr>
          <p:blipFill>
            <a:blip r:embed="rId1"/>
            <a:stretch/>
          </p:blipFill>
          <p:spPr>
            <a:xfrm>
              <a:off x="1549440" y="4906800"/>
              <a:ext cx="219708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TextBox 12"/>
            <p:cNvSpPr/>
            <p:nvPr/>
          </p:nvSpPr>
          <p:spPr>
            <a:xfrm>
              <a:off x="1740600" y="5089680"/>
              <a:ext cx="19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Trapezoid 13"/>
          <p:cNvSpPr/>
          <p:nvPr/>
        </p:nvSpPr>
        <p:spPr>
          <a:xfrm flipV="1">
            <a:off x="682560" y="3540960"/>
            <a:ext cx="3570480" cy="40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17"/>
          <p:cNvSpPr/>
          <p:nvPr/>
        </p:nvSpPr>
        <p:spPr>
          <a:xfrm>
            <a:off x="5970600" y="6620040"/>
            <a:ext cx="2995560" cy="77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Group 18"/>
          <p:cNvGrpSpPr/>
          <p:nvPr/>
        </p:nvGrpSpPr>
        <p:grpSpPr>
          <a:xfrm>
            <a:off x="5335560" y="2571840"/>
            <a:ext cx="609120" cy="3200400"/>
            <a:chOff x="5335560" y="2571840"/>
            <a:chExt cx="609120" cy="3200400"/>
          </a:xfrm>
        </p:grpSpPr>
        <p:sp>
          <p:nvSpPr>
            <p:cNvPr id="806" name="Left Bracket 19"/>
            <p:cNvSpPr/>
            <p:nvPr/>
          </p:nvSpPr>
          <p:spPr>
            <a:xfrm>
              <a:off x="5335560" y="257184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eft Bracket 20"/>
            <p:cNvSpPr/>
            <p:nvPr/>
          </p:nvSpPr>
          <p:spPr>
            <a:xfrm flipH="1">
              <a:off x="5639400" y="257184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Group 21"/>
          <p:cNvGrpSpPr/>
          <p:nvPr/>
        </p:nvGrpSpPr>
        <p:grpSpPr>
          <a:xfrm>
            <a:off x="6516720" y="2571840"/>
            <a:ext cx="609120" cy="3200400"/>
            <a:chOff x="6516720" y="2571840"/>
            <a:chExt cx="609120" cy="3200400"/>
          </a:xfrm>
        </p:grpSpPr>
        <p:sp>
          <p:nvSpPr>
            <p:cNvPr id="809" name="Left Bracket 22"/>
            <p:cNvSpPr/>
            <p:nvPr/>
          </p:nvSpPr>
          <p:spPr>
            <a:xfrm>
              <a:off x="6516720" y="257184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eft Bracket 23"/>
            <p:cNvSpPr/>
            <p:nvPr/>
          </p:nvSpPr>
          <p:spPr>
            <a:xfrm flipH="1">
              <a:off x="6820560" y="257184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Oval 24"/>
          <p:cNvSpPr/>
          <p:nvPr/>
        </p:nvSpPr>
        <p:spPr>
          <a:xfrm>
            <a:off x="5145120" y="4971960"/>
            <a:ext cx="2209680" cy="22100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26"/>
          <p:cNvSpPr/>
          <p:nvPr/>
        </p:nvSpPr>
        <p:spPr>
          <a:xfrm>
            <a:off x="5350680" y="203364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27"/>
          <p:cNvSpPr/>
          <p:nvPr/>
        </p:nvSpPr>
        <p:spPr>
          <a:xfrm>
            <a:off x="6019200" y="37861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28"/>
          <p:cNvGrpSpPr/>
          <p:nvPr/>
        </p:nvGrpSpPr>
        <p:grpSpPr>
          <a:xfrm>
            <a:off x="5133960" y="2946240"/>
            <a:ext cx="403200" cy="403560"/>
            <a:chOff x="5133960" y="2946240"/>
            <a:chExt cx="403200" cy="403560"/>
          </a:xfrm>
        </p:grpSpPr>
        <p:sp>
          <p:nvSpPr>
            <p:cNvPr id="815" name="Oval 29"/>
            <p:cNvSpPr/>
            <p:nvPr/>
          </p:nvSpPr>
          <p:spPr>
            <a:xfrm>
              <a:off x="5133960" y="2946240"/>
              <a:ext cx="403200" cy="40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6" name="Picture 30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5193720" y="3035880"/>
              <a:ext cx="28368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7" name="Group 31"/>
          <p:cNvGrpSpPr/>
          <p:nvPr/>
        </p:nvGrpSpPr>
        <p:grpSpPr>
          <a:xfrm>
            <a:off x="5133960" y="3441600"/>
            <a:ext cx="403200" cy="401760"/>
            <a:chOff x="5133960" y="3441600"/>
            <a:chExt cx="403200" cy="401760"/>
          </a:xfrm>
        </p:grpSpPr>
        <p:sp>
          <p:nvSpPr>
            <p:cNvPr id="818" name="Oval 32"/>
            <p:cNvSpPr/>
            <p:nvPr/>
          </p:nvSpPr>
          <p:spPr>
            <a:xfrm>
              <a:off x="5133960" y="3441600"/>
              <a:ext cx="40320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9" name="Picture 33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93720" y="353088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0" name="Group 34"/>
          <p:cNvGrpSpPr/>
          <p:nvPr/>
        </p:nvGrpSpPr>
        <p:grpSpPr>
          <a:xfrm>
            <a:off x="5133960" y="4570560"/>
            <a:ext cx="403200" cy="401400"/>
            <a:chOff x="5133960" y="4570560"/>
            <a:chExt cx="403200" cy="401400"/>
          </a:xfrm>
        </p:grpSpPr>
        <p:sp>
          <p:nvSpPr>
            <p:cNvPr id="821" name="Oval 35"/>
            <p:cNvSpPr/>
            <p:nvPr/>
          </p:nvSpPr>
          <p:spPr>
            <a:xfrm>
              <a:off x="5133960" y="4570560"/>
              <a:ext cx="40320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Picture 36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5193720" y="465984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3" name="Group 37"/>
          <p:cNvGrpSpPr/>
          <p:nvPr/>
        </p:nvGrpSpPr>
        <p:grpSpPr>
          <a:xfrm>
            <a:off x="5133960" y="4046400"/>
            <a:ext cx="403200" cy="401760"/>
            <a:chOff x="5133960" y="4046400"/>
            <a:chExt cx="403200" cy="401760"/>
          </a:xfrm>
        </p:grpSpPr>
        <p:sp>
          <p:nvSpPr>
            <p:cNvPr id="824" name="Oval 38"/>
            <p:cNvSpPr/>
            <p:nvPr/>
          </p:nvSpPr>
          <p:spPr>
            <a:xfrm>
              <a:off x="5133960" y="4046400"/>
              <a:ext cx="40320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5" name="Picture 39" descr=""/>
            <p:cNvPicPr/>
            <p:nvPr/>
          </p:nvPicPr>
          <p:blipFill>
            <a:blip r:embed="rId5"/>
            <a:stretch/>
          </p:blipFill>
          <p:spPr>
            <a:xfrm flipH="1" rot="10800000">
              <a:off x="5193720" y="413568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6" name="Group 40"/>
          <p:cNvGrpSpPr/>
          <p:nvPr/>
        </p:nvGrpSpPr>
        <p:grpSpPr>
          <a:xfrm>
            <a:off x="6924600" y="2898720"/>
            <a:ext cx="403200" cy="401760"/>
            <a:chOff x="6924600" y="2898720"/>
            <a:chExt cx="403200" cy="401760"/>
          </a:xfrm>
        </p:grpSpPr>
        <p:sp>
          <p:nvSpPr>
            <p:cNvPr id="827" name="Oval 41"/>
            <p:cNvSpPr/>
            <p:nvPr/>
          </p:nvSpPr>
          <p:spPr>
            <a:xfrm>
              <a:off x="6924600" y="2898720"/>
              <a:ext cx="40320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8" name="Picture 42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6984360" y="298800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9" name="Group 43"/>
          <p:cNvGrpSpPr/>
          <p:nvPr/>
        </p:nvGrpSpPr>
        <p:grpSpPr>
          <a:xfrm>
            <a:off x="6924600" y="3392640"/>
            <a:ext cx="403200" cy="403200"/>
            <a:chOff x="6924600" y="3392640"/>
            <a:chExt cx="403200" cy="403200"/>
          </a:xfrm>
        </p:grpSpPr>
        <p:sp>
          <p:nvSpPr>
            <p:cNvPr id="830" name="Oval 44"/>
            <p:cNvSpPr/>
            <p:nvPr/>
          </p:nvSpPr>
          <p:spPr>
            <a:xfrm>
              <a:off x="6924600" y="3392640"/>
              <a:ext cx="40320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1" name="Picture 45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6984360" y="3482280"/>
              <a:ext cx="28368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Group 46"/>
          <p:cNvGrpSpPr/>
          <p:nvPr/>
        </p:nvGrpSpPr>
        <p:grpSpPr>
          <a:xfrm>
            <a:off x="6924600" y="4521240"/>
            <a:ext cx="403200" cy="403200"/>
            <a:chOff x="6924600" y="4521240"/>
            <a:chExt cx="403200" cy="403200"/>
          </a:xfrm>
        </p:grpSpPr>
        <p:sp>
          <p:nvSpPr>
            <p:cNvPr id="833" name="Oval 47"/>
            <p:cNvSpPr/>
            <p:nvPr/>
          </p:nvSpPr>
          <p:spPr>
            <a:xfrm>
              <a:off x="6924600" y="4521240"/>
              <a:ext cx="40320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4" name="Picture 48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6984360" y="4610880"/>
              <a:ext cx="28368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5" name="Group 49"/>
          <p:cNvGrpSpPr/>
          <p:nvPr/>
        </p:nvGrpSpPr>
        <p:grpSpPr>
          <a:xfrm>
            <a:off x="6924600" y="3997440"/>
            <a:ext cx="403200" cy="401400"/>
            <a:chOff x="6924600" y="3997440"/>
            <a:chExt cx="403200" cy="401400"/>
          </a:xfrm>
        </p:grpSpPr>
        <p:sp>
          <p:nvSpPr>
            <p:cNvPr id="836" name="Oval 50"/>
            <p:cNvSpPr/>
            <p:nvPr/>
          </p:nvSpPr>
          <p:spPr>
            <a:xfrm>
              <a:off x="6924600" y="3997440"/>
              <a:ext cx="40320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7" name="Picture 51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6984360" y="4086720"/>
              <a:ext cx="283680" cy="15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8" name="Picture 53" descr=""/>
          <p:cNvPicPr/>
          <p:nvPr/>
        </p:nvPicPr>
        <p:blipFill>
          <a:blip r:embed="rId10"/>
          <a:stretch/>
        </p:blipFill>
        <p:spPr>
          <a:xfrm>
            <a:off x="3773520" y="4660920"/>
            <a:ext cx="825480" cy="9018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55" descr=""/>
          <p:cNvPicPr/>
          <p:nvPr/>
        </p:nvPicPr>
        <p:blipFill>
          <a:blip r:embed="rId11"/>
          <a:stretch/>
        </p:blipFill>
        <p:spPr>
          <a:xfrm>
            <a:off x="1639800" y="4005360"/>
            <a:ext cx="609840" cy="9270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56" descr=""/>
          <p:cNvPicPr/>
          <p:nvPr/>
        </p:nvPicPr>
        <p:blipFill>
          <a:blip r:embed="rId12"/>
          <a:stretch/>
        </p:blipFill>
        <p:spPr>
          <a:xfrm>
            <a:off x="2290680" y="4005360"/>
            <a:ext cx="609840" cy="9270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57" descr=""/>
          <p:cNvPicPr/>
          <p:nvPr/>
        </p:nvPicPr>
        <p:blipFill>
          <a:blip r:embed="rId13"/>
          <a:stretch/>
        </p:blipFill>
        <p:spPr>
          <a:xfrm>
            <a:off x="2900520" y="4005360"/>
            <a:ext cx="609480" cy="92700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8"/>
          <p:cNvSpPr/>
          <p:nvPr/>
        </p:nvSpPr>
        <p:spPr>
          <a:xfrm>
            <a:off x="165240" y="4013280"/>
            <a:ext cx="147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 Ma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gm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traight Connector 59"/>
          <p:cNvSpPr/>
          <p:nvPr/>
        </p:nvSpPr>
        <p:spPr>
          <a:xfrm>
            <a:off x="1944720" y="4932360"/>
            <a:ext cx="4572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traight Connector 60"/>
          <p:cNvSpPr/>
          <p:nvPr/>
        </p:nvSpPr>
        <p:spPr>
          <a:xfrm flipH="1">
            <a:off x="2595600" y="493380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Straight Connector 61"/>
          <p:cNvSpPr/>
          <p:nvPr/>
        </p:nvSpPr>
        <p:spPr>
          <a:xfrm flipH="1">
            <a:off x="2935080" y="4932360"/>
            <a:ext cx="2696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2"/>
          <p:cNvSpPr/>
          <p:nvPr/>
        </p:nvSpPr>
        <p:spPr>
          <a:xfrm>
            <a:off x="682560" y="2629080"/>
            <a:ext cx="3570480" cy="13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3"/>
          <p:cNvSpPr/>
          <p:nvPr/>
        </p:nvSpPr>
        <p:spPr>
          <a:xfrm>
            <a:off x="866880" y="3424320"/>
            <a:ext cx="327348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4"/>
          <p:cNvSpPr/>
          <p:nvPr/>
        </p:nvSpPr>
        <p:spPr>
          <a:xfrm>
            <a:off x="866880" y="2844720"/>
            <a:ext cx="327348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66"/>
          <p:cNvSpPr/>
          <p:nvPr/>
        </p:nvSpPr>
        <p:spPr>
          <a:xfrm>
            <a:off x="1300320" y="2543040"/>
            <a:ext cx="53316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67"/>
          <p:cNvSpPr/>
          <p:nvPr/>
        </p:nvSpPr>
        <p:spPr>
          <a:xfrm>
            <a:off x="2971800" y="2543040"/>
            <a:ext cx="53352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68"/>
          <p:cNvSpPr/>
          <p:nvPr/>
        </p:nvSpPr>
        <p:spPr>
          <a:xfrm>
            <a:off x="2151000" y="2543040"/>
            <a:ext cx="53352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Group 96"/>
          <p:cNvGrpSpPr/>
          <p:nvPr/>
        </p:nvGrpSpPr>
        <p:grpSpPr>
          <a:xfrm>
            <a:off x="8005680" y="5029200"/>
            <a:ext cx="862200" cy="1989000"/>
            <a:chOff x="8005680" y="5029200"/>
            <a:chExt cx="862200" cy="1989000"/>
          </a:xfrm>
        </p:grpSpPr>
        <p:grpSp>
          <p:nvGrpSpPr>
            <p:cNvPr id="853" name="Group 195"/>
            <p:cNvGrpSpPr/>
            <p:nvPr/>
          </p:nvGrpSpPr>
          <p:grpSpPr>
            <a:xfrm>
              <a:off x="8337240" y="5029200"/>
              <a:ext cx="372240" cy="1469160"/>
              <a:chOff x="8337240" y="5029200"/>
              <a:chExt cx="372240" cy="1469160"/>
            </a:xfrm>
          </p:grpSpPr>
          <p:grpSp>
            <p:nvGrpSpPr>
              <p:cNvPr id="854" name="Group 200"/>
              <p:cNvGrpSpPr/>
              <p:nvPr/>
            </p:nvGrpSpPr>
            <p:grpSpPr>
              <a:xfrm>
                <a:off x="8337240" y="5029200"/>
                <a:ext cx="279720" cy="1469160"/>
                <a:chOff x="8337240" y="5029200"/>
                <a:chExt cx="279720" cy="1469160"/>
              </a:xfrm>
            </p:grpSpPr>
            <p:sp>
              <p:nvSpPr>
                <p:cNvPr id="855" name="Left Bracket 115"/>
                <p:cNvSpPr/>
                <p:nvPr/>
              </p:nvSpPr>
              <p:spPr>
                <a:xfrm>
                  <a:off x="8337240" y="5029200"/>
                  <a:ext cx="140040" cy="1469160"/>
                </a:xfrm>
                <a:custGeom>
                  <a:avLst/>
                  <a:gdLst>
                    <a:gd name="textAreaLeft" fmla="*/ 41040 w 140040"/>
                    <a:gd name="textAreaRight" fmla="*/ 140040 w 140040"/>
                    <a:gd name="textAreaTop" fmla="*/ 73080 h 1469160"/>
                    <a:gd name="textAreaBottom" fmla="*/ 1396080 h 1469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76"/>
                        <a:pt x="0" y="2152"/>
                      </a:cubicBezTo>
                      <a:lnTo>
                        <a:pt x="0" y="19448"/>
                      </a:lnTo>
                      <a:cubicBezTo>
                        <a:pt x="0" y="20524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Left Bracket 116"/>
                <p:cNvSpPr/>
                <p:nvPr/>
              </p:nvSpPr>
              <p:spPr>
                <a:xfrm flipH="1">
                  <a:off x="8476560" y="5029200"/>
                  <a:ext cx="140040" cy="1469160"/>
                </a:xfrm>
                <a:custGeom>
                  <a:avLst/>
                  <a:gdLst>
                    <a:gd name="textAreaLeft" fmla="*/ 41040 w 140040"/>
                    <a:gd name="textAreaRight" fmla="*/ 140040 w 140040"/>
                    <a:gd name="textAreaTop" fmla="*/ 70920 h 1469160"/>
                    <a:gd name="textAreaBottom" fmla="*/ 1398240 h 1469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4"/>
                        <a:pt x="0" y="2088"/>
                      </a:cubicBezTo>
                      <a:lnTo>
                        <a:pt x="0" y="19512"/>
                      </a:lnTo>
                      <a:cubicBezTo>
                        <a:pt x="0" y="20556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7" name="Group 201"/>
              <p:cNvGrpSpPr/>
              <p:nvPr/>
            </p:nvGrpSpPr>
            <p:grpSpPr>
              <a:xfrm>
                <a:off x="8524800" y="5178600"/>
                <a:ext cx="184680" cy="184320"/>
                <a:chOff x="8524800" y="5178600"/>
                <a:chExt cx="184680" cy="184320"/>
              </a:xfrm>
            </p:grpSpPr>
            <p:sp>
              <p:nvSpPr>
                <p:cNvPr id="858" name="Oval 113"/>
                <p:cNvSpPr/>
                <p:nvPr/>
              </p:nvSpPr>
              <p:spPr>
                <a:xfrm>
                  <a:off x="8524800" y="517860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59" name="Picture 114" descr=""/>
                <p:cNvPicPr/>
                <p:nvPr/>
              </p:nvPicPr>
              <p:blipFill>
                <a:blip r:embed="rId14"/>
                <a:stretch/>
              </p:blipFill>
              <p:spPr>
                <a:xfrm flipH="1" rot="10800000">
                  <a:off x="8552160" y="5220000"/>
                  <a:ext cx="13032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0" name="Group 202"/>
              <p:cNvGrpSpPr/>
              <p:nvPr/>
            </p:nvGrpSpPr>
            <p:grpSpPr>
              <a:xfrm>
                <a:off x="8524800" y="5405760"/>
                <a:ext cx="184680" cy="184320"/>
                <a:chOff x="8524800" y="5405760"/>
                <a:chExt cx="184680" cy="184320"/>
              </a:xfrm>
            </p:grpSpPr>
            <p:sp>
              <p:nvSpPr>
                <p:cNvPr id="861" name="Oval 111"/>
                <p:cNvSpPr/>
                <p:nvPr/>
              </p:nvSpPr>
              <p:spPr>
                <a:xfrm>
                  <a:off x="8524800" y="540576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62" name="Picture 112" descr=""/>
                <p:cNvPicPr/>
                <p:nvPr/>
              </p:nvPicPr>
              <p:blipFill>
                <a:blip r:embed="rId15"/>
                <a:stretch/>
              </p:blipFill>
              <p:spPr>
                <a:xfrm flipH="1" rot="10800000">
                  <a:off x="8552160" y="5447880"/>
                  <a:ext cx="130320" cy="73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3" name="Group 203"/>
              <p:cNvGrpSpPr/>
              <p:nvPr/>
            </p:nvGrpSpPr>
            <p:grpSpPr>
              <a:xfrm>
                <a:off x="8524800" y="5924160"/>
                <a:ext cx="184680" cy="184320"/>
                <a:chOff x="8524800" y="5924160"/>
                <a:chExt cx="184680" cy="184320"/>
              </a:xfrm>
            </p:grpSpPr>
            <p:sp>
              <p:nvSpPr>
                <p:cNvPr id="864" name="Oval 109"/>
                <p:cNvSpPr/>
                <p:nvPr/>
              </p:nvSpPr>
              <p:spPr>
                <a:xfrm>
                  <a:off x="8524800" y="592416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65" name="Picture 110" descr=""/>
                <p:cNvPicPr/>
                <p:nvPr/>
              </p:nvPicPr>
              <p:blipFill>
                <a:blip r:embed="rId16"/>
                <a:stretch/>
              </p:blipFill>
              <p:spPr>
                <a:xfrm flipH="1" rot="10800000">
                  <a:off x="8552160" y="5968080"/>
                  <a:ext cx="130320" cy="70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6" name="Group 204"/>
              <p:cNvGrpSpPr/>
              <p:nvPr/>
            </p:nvGrpSpPr>
            <p:grpSpPr>
              <a:xfrm>
                <a:off x="8524800" y="5683320"/>
                <a:ext cx="184680" cy="184320"/>
                <a:chOff x="8524800" y="5683320"/>
                <a:chExt cx="184680" cy="184320"/>
              </a:xfrm>
            </p:grpSpPr>
            <p:sp>
              <p:nvSpPr>
                <p:cNvPr id="867" name="Oval 107"/>
                <p:cNvSpPr/>
                <p:nvPr/>
              </p:nvSpPr>
              <p:spPr>
                <a:xfrm>
                  <a:off x="8524800" y="5683320"/>
                  <a:ext cx="184680" cy="184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68" name="Picture 108" descr=""/>
                <p:cNvPicPr/>
                <p:nvPr/>
              </p:nvPicPr>
              <p:blipFill>
                <a:blip r:embed="rId17"/>
                <a:stretch/>
              </p:blipFill>
              <p:spPr>
                <a:xfrm flipH="1" rot="10800000">
                  <a:off x="8552160" y="5724360"/>
                  <a:ext cx="130320" cy="7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69" name="Group 196"/>
            <p:cNvGrpSpPr/>
            <p:nvPr/>
          </p:nvGrpSpPr>
          <p:grpSpPr>
            <a:xfrm>
              <a:off x="8005680" y="6156000"/>
              <a:ext cx="862200" cy="862200"/>
              <a:chOff x="8005680" y="6156000"/>
              <a:chExt cx="862200" cy="862200"/>
            </a:xfrm>
          </p:grpSpPr>
          <p:sp>
            <p:nvSpPr>
              <p:cNvPr id="870" name="Oval 99"/>
              <p:cNvSpPr/>
              <p:nvPr/>
            </p:nvSpPr>
            <p:spPr>
              <a:xfrm>
                <a:off x="8005680" y="6156000"/>
                <a:ext cx="862200" cy="86220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Cube 100"/>
              <p:cNvSpPr/>
              <p:nvPr/>
            </p:nvSpPr>
            <p:spPr>
              <a:xfrm>
                <a:off x="8124480" y="6319440"/>
                <a:ext cx="594000" cy="32688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101"/>
              <p:cNvSpPr/>
              <p:nvPr/>
            </p:nvSpPr>
            <p:spPr>
              <a:xfrm>
                <a:off x="8243640" y="6360840"/>
                <a:ext cx="355680" cy="15228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3" name="Snip Diagonal Corner Rectangle 117"/>
          <p:cNvSpPr/>
          <p:nvPr/>
        </p:nvSpPr>
        <p:spPr>
          <a:xfrm rot="2521200">
            <a:off x="4359240" y="4952880"/>
            <a:ext cx="930240" cy="3461040"/>
          </a:xfrm>
          <a:prstGeom prst="pie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Shape 109"/>
          <p:cNvCxnSpPr>
            <a:endCxn id="875" idx="2"/>
          </p:cNvCxnSpPr>
          <p:nvPr/>
        </p:nvCxnSpPr>
        <p:spPr>
          <a:xfrm flipH="1" rot="16200000">
            <a:off x="4678920" y="5068440"/>
            <a:ext cx="276840" cy="12646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76" name="Shape 60"/>
          <p:cNvCxnSpPr/>
          <p:nvPr/>
        </p:nvCxnSpPr>
        <p:spPr>
          <a:xfrm>
            <a:off x="2641320" y="5638680"/>
            <a:ext cx="2910240" cy="339120"/>
          </a:xfrm>
          <a:prstGeom prst="bentConnector3">
            <a:avLst>
              <a:gd name="adj1" fmla="val 23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875" name="Cube 120"/>
          <p:cNvSpPr/>
          <p:nvPr/>
        </p:nvSpPr>
        <p:spPr>
          <a:xfrm>
            <a:off x="5450040" y="5391000"/>
            <a:ext cx="1523880" cy="838440"/>
          </a:xfrm>
          <a:prstGeom prst="cube">
            <a:avLst>
              <a:gd name="adj" fmla="val 6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21"/>
          <p:cNvSpPr/>
          <p:nvPr/>
        </p:nvSpPr>
        <p:spPr>
          <a:xfrm>
            <a:off x="5754600" y="5497560"/>
            <a:ext cx="914400" cy="390600"/>
          </a:xfrm>
          <a:prstGeom prst="rect">
            <a:avLst/>
          </a:prstGeom>
          <a:gradFill rotWithShape="0">
            <a:gsLst>
              <a:gs pos="0">
                <a:srgbClr val="85ffdb"/>
              </a:gs>
              <a:gs pos="100000">
                <a:srgbClr val="00eba8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11"/>
          <p:cNvSpPr/>
          <p:nvPr/>
        </p:nvSpPr>
        <p:spPr>
          <a:xfrm>
            <a:off x="165240" y="6637320"/>
            <a:ext cx="4559040" cy="15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4"/>
          <p:cNvSpPr/>
          <p:nvPr/>
        </p:nvSpPr>
        <p:spPr>
          <a:xfrm>
            <a:off x="399960" y="7683480"/>
            <a:ext cx="4070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ed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15"/>
          <p:cNvSpPr/>
          <p:nvPr/>
        </p:nvSpPr>
        <p:spPr>
          <a:xfrm>
            <a:off x="387360" y="7201080"/>
            <a:ext cx="40957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16"/>
          <p:cNvSpPr/>
          <p:nvPr/>
        </p:nvSpPr>
        <p:spPr>
          <a:xfrm>
            <a:off x="387360" y="6756480"/>
            <a:ext cx="2724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118"/>
          <p:cNvSpPr/>
          <p:nvPr/>
        </p:nvSpPr>
        <p:spPr>
          <a:xfrm>
            <a:off x="1031760" y="6572160"/>
            <a:ext cx="64764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119"/>
          <p:cNvSpPr/>
          <p:nvPr/>
        </p:nvSpPr>
        <p:spPr>
          <a:xfrm>
            <a:off x="3963960" y="6573960"/>
            <a:ext cx="646200" cy="1252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121"/>
          <p:cNvSpPr/>
          <p:nvPr/>
        </p:nvSpPr>
        <p:spPr>
          <a:xfrm>
            <a:off x="1771560" y="6564240"/>
            <a:ext cx="647640" cy="1270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Box 122"/>
          <p:cNvSpPr/>
          <p:nvPr/>
        </p:nvSpPr>
        <p:spPr>
          <a:xfrm>
            <a:off x="1031760" y="6072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131"/>
          <p:cNvSpPr/>
          <p:nvPr/>
        </p:nvSpPr>
        <p:spPr>
          <a:xfrm>
            <a:off x="1771560" y="6073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Box 132"/>
          <p:cNvSpPr/>
          <p:nvPr/>
        </p:nvSpPr>
        <p:spPr>
          <a:xfrm>
            <a:off x="3286080" y="60739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133"/>
          <p:cNvSpPr/>
          <p:nvPr/>
        </p:nvSpPr>
        <p:spPr>
          <a:xfrm>
            <a:off x="284040" y="6572160"/>
            <a:ext cx="648000" cy="125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Box 134"/>
          <p:cNvSpPr/>
          <p:nvPr/>
        </p:nvSpPr>
        <p:spPr>
          <a:xfrm>
            <a:off x="284040" y="60739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135"/>
          <p:cNvSpPr/>
          <p:nvPr/>
        </p:nvSpPr>
        <p:spPr>
          <a:xfrm>
            <a:off x="3286080" y="6566040"/>
            <a:ext cx="646200" cy="1252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Box 136"/>
          <p:cNvSpPr/>
          <p:nvPr/>
        </p:nvSpPr>
        <p:spPr>
          <a:xfrm>
            <a:off x="3962520" y="6089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137"/>
          <p:cNvSpPr/>
          <p:nvPr/>
        </p:nvSpPr>
        <p:spPr>
          <a:xfrm>
            <a:off x="2465280" y="6562800"/>
            <a:ext cx="646200" cy="12708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Box 138"/>
          <p:cNvSpPr/>
          <p:nvPr/>
        </p:nvSpPr>
        <p:spPr>
          <a:xfrm>
            <a:off x="2465280" y="6081840"/>
            <a:ext cx="6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39"/>
          <p:cNvSpPr/>
          <p:nvPr/>
        </p:nvSpPr>
        <p:spPr>
          <a:xfrm>
            <a:off x="1103400" y="28065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Handling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Box 122"/>
          <p:cNvSpPr/>
          <p:nvPr/>
        </p:nvSpPr>
        <p:spPr>
          <a:xfrm>
            <a:off x="2060640" y="20844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Box 131"/>
          <p:cNvSpPr/>
          <p:nvPr/>
        </p:nvSpPr>
        <p:spPr>
          <a:xfrm>
            <a:off x="2914560" y="2085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Box 134"/>
          <p:cNvSpPr/>
          <p:nvPr/>
        </p:nvSpPr>
        <p:spPr>
          <a:xfrm>
            <a:off x="1262160" y="2085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7C26-BF8E-4F04-9EDF-DF6E7DBC49D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Benefits of using SoA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s a standard mechanism for providing external interfa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s a standard for workflow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vides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non-proprietary framework for expressing service-based functionality and open interfa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mazon Web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74840" y="2184480"/>
            <a:ext cx="39909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rastructure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yments &amp; Bil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n-demand Workfor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mazon Fulfill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343040" y="2171520"/>
            <a:ext cx="441972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ication, Web &amp; Media Ho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up &amp; Sto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t Delive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P Compu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-demand Workfor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arch Engi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21A0-04D3-4A6A-9A7A-D294CA8750D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Box 5"/>
          <p:cNvSpPr/>
          <p:nvPr/>
        </p:nvSpPr>
        <p:spPr>
          <a:xfrm>
            <a:off x="865800" y="7823160"/>
            <a:ext cx="72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vailable at: http://aws.amazon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Using the AW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gister and establish free AWS accou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iew the technical documentation for th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iew the SLA and associated cos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AWS APIs and WSDL files for integration with your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ider alternatives e.g. Goog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FB9C-8A5D-4E4A-9B49-FCF8CF55319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enefits of using AW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of infrastructure web services provides a factor of 10 saving cf. cost of ownership plus enables on-demand expans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se of building new web-based applications that can be quickly integrated with other applic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B7AA-3E45-4ED4-B56A-0C11B90BB83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01B3-1B2B-4020-A047-41EE49E14F5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ach 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 Study is based upon a a clear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turn on Investment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ull benefit requires high level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oA maturity</a:t>
            </a:r>
            <a:br>
              <a:rPr sz="4000"/>
            </a:b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changes the rules of competition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tegration is K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B45E-5637-4DC1-A4DD-58BA98B94B9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A2F3-BBA0-4F23-BE18-9E8DF2304D9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how service definitions are used to support Oracle’s Enterprise SA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the different approaches by which SoA was used to drive product innovation for S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how the Amazon Web Services can be used to extend the capabilities of a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DE2D-9F30-47F2-B800-D223BE85E22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hree Case Stud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racle’s Enterprise SA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eb Services based interoperability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duct innovation for S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lexible integration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mazon Web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ird party services via SO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6D59-BE14-4B85-A50A-5D4C00A7174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racle’s Enterprise SAIP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47" name="Picture 8" descr="academic enterprise"/>
          <p:cNvPicPr/>
          <p:nvPr/>
        </p:nvPicPr>
        <p:blipFill>
          <a:blip r:embed="rId1"/>
          <a:stretch/>
        </p:blipFill>
        <p:spPr>
          <a:xfrm>
            <a:off x="1001880" y="2068560"/>
            <a:ext cx="7062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2DE3-08AC-43F6-BD2A-1776629CA76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Information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51" name="Rectangle 103" descr=""/>
          <p:cNvPicPr/>
          <p:nvPr/>
        </p:nvPicPr>
        <p:blipFill>
          <a:blip r:embed="rId1"/>
          <a:stretch/>
        </p:blipFill>
        <p:spPr>
          <a:xfrm>
            <a:off x="633240" y="3333600"/>
            <a:ext cx="1586160" cy="4719960"/>
          </a:xfrm>
          <a:prstGeom prst="rect">
            <a:avLst/>
          </a:prstGeom>
          <a:ln w="0">
            <a:noFill/>
          </a:ln>
        </p:spPr>
      </p:pic>
      <p:pic>
        <p:nvPicPr>
          <p:cNvPr id="652" name="Rectangle 104" descr=""/>
          <p:cNvPicPr/>
          <p:nvPr/>
        </p:nvPicPr>
        <p:blipFill>
          <a:blip r:embed="rId2"/>
          <a:stretch/>
        </p:blipFill>
        <p:spPr>
          <a:xfrm>
            <a:off x="2262240" y="3333600"/>
            <a:ext cx="1584360" cy="4719960"/>
          </a:xfrm>
          <a:prstGeom prst="rect">
            <a:avLst/>
          </a:prstGeom>
          <a:ln w="0">
            <a:noFill/>
          </a:ln>
        </p:spPr>
      </p:pic>
      <p:pic>
        <p:nvPicPr>
          <p:cNvPr id="653" name="Rectangle 105" descr=""/>
          <p:cNvPicPr/>
          <p:nvPr/>
        </p:nvPicPr>
        <p:blipFill>
          <a:blip r:embed="rId3"/>
          <a:stretch/>
        </p:blipFill>
        <p:spPr>
          <a:xfrm>
            <a:off x="3889440" y="3333600"/>
            <a:ext cx="1584360" cy="4719960"/>
          </a:xfrm>
          <a:prstGeom prst="rect">
            <a:avLst/>
          </a:prstGeom>
          <a:ln w="0">
            <a:noFill/>
          </a:ln>
        </p:spPr>
      </p:pic>
      <p:pic>
        <p:nvPicPr>
          <p:cNvPr id="654" name="Rectangle 106" descr=""/>
          <p:cNvPicPr/>
          <p:nvPr/>
        </p:nvPicPr>
        <p:blipFill>
          <a:blip r:embed="rId4"/>
          <a:stretch/>
        </p:blipFill>
        <p:spPr>
          <a:xfrm>
            <a:off x="5499000" y="3333600"/>
            <a:ext cx="1584360" cy="4719960"/>
          </a:xfrm>
          <a:prstGeom prst="rect">
            <a:avLst/>
          </a:prstGeom>
          <a:ln w="0">
            <a:noFill/>
          </a:ln>
        </p:spPr>
      </p:pic>
      <p:pic>
        <p:nvPicPr>
          <p:cNvPr id="655" name="Rectangle 107" descr=""/>
          <p:cNvPicPr/>
          <p:nvPr/>
        </p:nvPicPr>
        <p:blipFill>
          <a:blip r:embed="rId5"/>
          <a:stretch/>
        </p:blipFill>
        <p:spPr>
          <a:xfrm>
            <a:off x="7126200" y="3333600"/>
            <a:ext cx="1584360" cy="471996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108"/>
          <p:cNvSpPr/>
          <p:nvPr/>
        </p:nvSpPr>
        <p:spPr>
          <a:xfrm>
            <a:off x="635040" y="2362320"/>
            <a:ext cx="8064360" cy="88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k Data Exchange Management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7D35-DDB0-4AB1-BD73-1A0B69EAEAE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Interoperability using LI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3073320" y="4978440"/>
            <a:ext cx="2946600" cy="23493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Information System (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6222960" y="2286000"/>
            <a:ext cx="2565360" cy="19432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(L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507960" y="2286000"/>
            <a:ext cx="2565360" cy="1943280"/>
          </a:xfrm>
          <a:prstGeom prst="rect">
            <a:avLst/>
          </a:prstGeom>
          <a:solidFill>
            <a:srgbClr val="ebb3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9"/>
          <p:cNvSpPr/>
          <p:nvPr/>
        </p:nvSpPr>
        <p:spPr>
          <a:xfrm>
            <a:off x="2476440" y="4114800"/>
            <a:ext cx="4191120" cy="4191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0"/>
          <p:cNvSpPr/>
          <p:nvPr/>
        </p:nvSpPr>
        <p:spPr>
          <a:xfrm>
            <a:off x="571680" y="5651640"/>
            <a:ext cx="1358640" cy="10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1"/>
          <p:cNvSpPr/>
          <p:nvPr/>
        </p:nvSpPr>
        <p:spPr>
          <a:xfrm>
            <a:off x="7213680" y="5651640"/>
            <a:ext cx="1359000" cy="102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2"/>
          <p:cNvSpPr/>
          <p:nvPr/>
        </p:nvSpPr>
        <p:spPr>
          <a:xfrm>
            <a:off x="3886200" y="2616120"/>
            <a:ext cx="1359000" cy="10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35"/>
          <p:cNvSpPr/>
          <p:nvPr/>
        </p:nvSpPr>
        <p:spPr>
          <a:xfrm>
            <a:off x="4229280" y="4927680"/>
            <a:ext cx="647640" cy="139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37"/>
          <p:cNvSpPr/>
          <p:nvPr/>
        </p:nvSpPr>
        <p:spPr>
          <a:xfrm rot="16200000">
            <a:off x="5689440" y="6069960"/>
            <a:ext cx="647640" cy="139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38"/>
          <p:cNvSpPr/>
          <p:nvPr/>
        </p:nvSpPr>
        <p:spPr>
          <a:xfrm rot="16200000">
            <a:off x="2755800" y="6069960"/>
            <a:ext cx="647640" cy="139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Straight Arrow Connector 14"/>
          <p:cNvCxnSpPr>
            <a:stCxn id="666" idx="2"/>
            <a:endCxn id="660" idx="0"/>
          </p:cNvCxnSpPr>
          <p:nvPr/>
        </p:nvCxnSpPr>
        <p:spPr>
          <a:xfrm flipH="1">
            <a:off x="4545720" y="3645000"/>
            <a:ext cx="19800" cy="13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1" name="Straight Arrow Connector 19"/>
          <p:cNvCxnSpPr>
            <a:stCxn id="660" idx="3"/>
            <a:endCxn id="665" idx="1"/>
          </p:cNvCxnSpPr>
          <p:nvPr/>
        </p:nvCxnSpPr>
        <p:spPr>
          <a:xfrm>
            <a:off x="6019920" y="6152760"/>
            <a:ext cx="119448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2" name="Straight Arrow Connector 23"/>
          <p:cNvCxnSpPr>
            <a:stCxn id="664" idx="3"/>
            <a:endCxn id="660" idx="1"/>
          </p:cNvCxnSpPr>
          <p:nvPr/>
        </p:nvCxnSpPr>
        <p:spPr>
          <a:xfrm flipV="1">
            <a:off x="1929960" y="6152400"/>
            <a:ext cx="114372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3" name="Straight Arrow Connector 28"/>
          <p:cNvCxnSpPr>
            <a:stCxn id="662" idx="2"/>
            <a:endCxn id="660" idx="1"/>
          </p:cNvCxnSpPr>
          <p:nvPr/>
        </p:nvCxnSpPr>
        <p:spPr>
          <a:xfrm>
            <a:off x="1789560" y="4229280"/>
            <a:ext cx="1283400" cy="1924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4" name="Straight Arrow Connector 31"/>
          <p:cNvCxnSpPr>
            <a:stCxn id="661" idx="2"/>
            <a:endCxn id="660" idx="3"/>
          </p:cNvCxnSpPr>
          <p:nvPr/>
        </p:nvCxnSpPr>
        <p:spPr>
          <a:xfrm flipH="1">
            <a:off x="6019200" y="4229280"/>
            <a:ext cx="1486440" cy="1924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75" name="TextBox 39"/>
          <p:cNvSpPr/>
          <p:nvPr/>
        </p:nvSpPr>
        <p:spPr>
          <a:xfrm>
            <a:off x="6195960" y="782316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S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traight Connector 41"/>
          <p:cNvSpPr/>
          <p:nvPr/>
        </p:nvSpPr>
        <p:spPr>
          <a:xfrm flipH="1" flipV="1">
            <a:off x="5930640" y="7823160"/>
            <a:ext cx="266760" cy="262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7705-172E-4B09-AB2D-485E7E6BF1A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enefits </a:t>
            </a: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of using LI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351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voids having to create the equivalent proprietary Web Services interfa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lear ROI based on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usabi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ustomer satisfa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duced support/maintenance cos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ncreased sales opportun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articipation in broader comm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2ECB-22BC-46B0-8927-CC728586DCD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 Product Ready for Renov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ypical scenarios for SMEs considering their next generation products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echnology renovation opportun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mprove interoperabil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ging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ustomer integration use-ca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nification of set of produc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se third party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5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E3C7-EA2A-485F-BCC7-6B2B89422DE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he Old Architectur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8" name="Oval 6"/>
          <p:cNvSpPr/>
          <p:nvPr/>
        </p:nvSpPr>
        <p:spPr>
          <a:xfrm>
            <a:off x="3768840" y="6831000"/>
            <a:ext cx="4343400" cy="77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7"/>
          <p:cNvGrpSpPr/>
          <p:nvPr/>
        </p:nvGrpSpPr>
        <p:grpSpPr>
          <a:xfrm>
            <a:off x="2587680" y="2808360"/>
            <a:ext cx="609120" cy="3200400"/>
            <a:chOff x="2587680" y="2808360"/>
            <a:chExt cx="609120" cy="3200400"/>
          </a:xfrm>
        </p:grpSpPr>
        <p:sp>
          <p:nvSpPr>
            <p:cNvPr id="690" name="Left Bracket 8"/>
            <p:cNvSpPr/>
            <p:nvPr/>
          </p:nvSpPr>
          <p:spPr>
            <a:xfrm>
              <a:off x="2587680" y="280836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eft Bracket 9"/>
            <p:cNvSpPr/>
            <p:nvPr/>
          </p:nvSpPr>
          <p:spPr>
            <a:xfrm flipH="1">
              <a:off x="2891520" y="280836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10"/>
          <p:cNvGrpSpPr/>
          <p:nvPr/>
        </p:nvGrpSpPr>
        <p:grpSpPr>
          <a:xfrm>
            <a:off x="3768840" y="2808360"/>
            <a:ext cx="609120" cy="3200400"/>
            <a:chOff x="3768840" y="2808360"/>
            <a:chExt cx="609120" cy="3200400"/>
          </a:xfrm>
        </p:grpSpPr>
        <p:sp>
          <p:nvSpPr>
            <p:cNvPr id="693" name="Left Bracket 11"/>
            <p:cNvSpPr/>
            <p:nvPr/>
          </p:nvSpPr>
          <p:spPr>
            <a:xfrm>
              <a:off x="3768840" y="2808360"/>
              <a:ext cx="304560" cy="3200400"/>
            </a:xfrm>
            <a:custGeom>
              <a:avLst/>
              <a:gdLst>
                <a:gd name="textAreaLeft" fmla="*/ 89640 w 304560"/>
                <a:gd name="textAreaRight" fmla="*/ 304920 w 304560"/>
                <a:gd name="textAreaTop" fmla="*/ 159480 h 3200400"/>
                <a:gd name="textAreaBottom" fmla="*/ 304092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77"/>
                    <a:pt x="0" y="2154"/>
                  </a:cubicBezTo>
                  <a:lnTo>
                    <a:pt x="0" y="19446"/>
                  </a:lnTo>
                  <a:cubicBezTo>
                    <a:pt x="0" y="20523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eft Bracket 12"/>
            <p:cNvSpPr/>
            <p:nvPr/>
          </p:nvSpPr>
          <p:spPr>
            <a:xfrm flipH="1">
              <a:off x="4072680" y="2808360"/>
              <a:ext cx="304920" cy="32004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54800 h 3200400"/>
                <a:gd name="textAreaBottom" fmla="*/ 304560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045"/>
                    <a:pt x="0" y="2090"/>
                  </a:cubicBezTo>
                  <a:lnTo>
                    <a:pt x="0" y="19510"/>
                  </a:lnTo>
                  <a:cubicBezTo>
                    <a:pt x="0" y="20555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Group 13"/>
          <p:cNvGrpSpPr/>
          <p:nvPr/>
        </p:nvGrpSpPr>
        <p:grpSpPr>
          <a:xfrm>
            <a:off x="2397240" y="5208480"/>
            <a:ext cx="2209680" cy="2217240"/>
            <a:chOff x="2397240" y="5208480"/>
            <a:chExt cx="2209680" cy="2217240"/>
          </a:xfrm>
        </p:grpSpPr>
        <p:sp>
          <p:nvSpPr>
            <p:cNvPr id="696" name="Oval 14"/>
            <p:cNvSpPr/>
            <p:nvPr/>
          </p:nvSpPr>
          <p:spPr>
            <a:xfrm>
              <a:off x="2397240" y="5208480"/>
              <a:ext cx="2209680" cy="2210040"/>
            </a:xfrm>
            <a:prstGeom prst="ellipse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Cube 15"/>
            <p:cNvSpPr/>
            <p:nvPr/>
          </p:nvSpPr>
          <p:spPr>
            <a:xfrm>
              <a:off x="2701800" y="5627520"/>
              <a:ext cx="1523880" cy="838080"/>
            </a:xfrm>
            <a:prstGeom prst="cube">
              <a:avLst>
                <a:gd name="adj" fmla="val 6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16"/>
            <p:cNvSpPr/>
            <p:nvPr/>
          </p:nvSpPr>
          <p:spPr>
            <a:xfrm>
              <a:off x="3006720" y="5779800"/>
              <a:ext cx="914400" cy="38088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17"/>
            <p:cNvSpPr/>
            <p:nvPr/>
          </p:nvSpPr>
          <p:spPr>
            <a:xfrm>
              <a:off x="3273480" y="5779800"/>
              <a:ext cx="380880" cy="228600"/>
            </a:xfrm>
            <a:prstGeom prst="rect">
              <a:avLst/>
            </a:prstGeom>
            <a:gradFill rotWithShape="0">
              <a:gsLst>
                <a:gs pos="0">
                  <a:srgbClr val="85ffdb"/>
                </a:gs>
                <a:gs pos="100000">
                  <a:srgbClr val="00eba8"/>
                </a:gs>
              </a:gsLst>
              <a:lin ang="5400000"/>
            </a:gradFill>
            <a:ln w="9360">
              <a:solidFill>
                <a:srgbClr val="00cc9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Box 18"/>
            <p:cNvSpPr/>
            <p:nvPr/>
          </p:nvSpPr>
          <p:spPr>
            <a:xfrm>
              <a:off x="2912760" y="6478560"/>
              <a:ext cx="126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19"/>
          <p:cNvGrpSpPr/>
          <p:nvPr/>
        </p:nvGrpSpPr>
        <p:grpSpPr>
          <a:xfrm>
            <a:off x="5932440" y="4896000"/>
            <a:ext cx="932040" cy="2104920"/>
            <a:chOff x="5932440" y="4896000"/>
            <a:chExt cx="932040" cy="2104920"/>
          </a:xfrm>
        </p:grpSpPr>
        <p:grpSp>
          <p:nvGrpSpPr>
            <p:cNvPr id="702" name="Group 64"/>
            <p:cNvGrpSpPr/>
            <p:nvPr/>
          </p:nvGrpSpPr>
          <p:grpSpPr>
            <a:xfrm>
              <a:off x="6256800" y="4896000"/>
              <a:ext cx="351360" cy="1388160"/>
              <a:chOff x="6256800" y="4896000"/>
              <a:chExt cx="351360" cy="1388160"/>
            </a:xfrm>
          </p:grpSpPr>
          <p:grpSp>
            <p:nvGrpSpPr>
              <p:cNvPr id="703" name="Group 49"/>
              <p:cNvGrpSpPr/>
              <p:nvPr/>
            </p:nvGrpSpPr>
            <p:grpSpPr>
              <a:xfrm>
                <a:off x="6256800" y="4896000"/>
                <a:ext cx="263880" cy="1388160"/>
                <a:chOff x="6256800" y="4896000"/>
                <a:chExt cx="263880" cy="1388160"/>
              </a:xfrm>
            </p:grpSpPr>
            <p:sp>
              <p:nvSpPr>
                <p:cNvPr id="704" name="Left Bracket 39"/>
                <p:cNvSpPr/>
                <p:nvPr/>
              </p:nvSpPr>
              <p:spPr>
                <a:xfrm>
                  <a:off x="6256800" y="4896000"/>
                  <a:ext cx="132840" cy="1388160"/>
                </a:xfrm>
                <a:custGeom>
                  <a:avLst/>
                  <a:gdLst>
                    <a:gd name="textAreaLeft" fmla="*/ 38880 w 132840"/>
                    <a:gd name="textAreaRight" fmla="*/ 133200 w 132840"/>
                    <a:gd name="textAreaTop" fmla="*/ 69840 h 1388160"/>
                    <a:gd name="textAreaBottom" fmla="*/ 1318320 h 138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87"/>
                        <a:pt x="0" y="2174"/>
                      </a:cubicBezTo>
                      <a:lnTo>
                        <a:pt x="0" y="19426"/>
                      </a:lnTo>
                      <a:cubicBezTo>
                        <a:pt x="0" y="20513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Left Bracket 40"/>
                <p:cNvSpPr/>
                <p:nvPr/>
              </p:nvSpPr>
              <p:spPr>
                <a:xfrm flipH="1">
                  <a:off x="6388920" y="4896000"/>
                  <a:ext cx="131400" cy="1388160"/>
                </a:xfrm>
                <a:custGeom>
                  <a:avLst/>
                  <a:gdLst>
                    <a:gd name="textAreaLeft" fmla="*/ 38520 w 131400"/>
                    <a:gd name="textAreaRight" fmla="*/ 131760 w 131400"/>
                    <a:gd name="textAreaTop" fmla="*/ 66960 h 1388160"/>
                    <a:gd name="textAreaBottom" fmla="*/ 1321200 h 1388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3"/>
                        <a:pt x="0" y="2085"/>
                      </a:cubicBezTo>
                      <a:lnTo>
                        <a:pt x="0" y="19515"/>
                      </a:lnTo>
                      <a:cubicBezTo>
                        <a:pt x="0" y="20558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Group 52"/>
              <p:cNvGrpSpPr/>
              <p:nvPr/>
            </p:nvGrpSpPr>
            <p:grpSpPr>
              <a:xfrm>
                <a:off x="6433920" y="5037120"/>
                <a:ext cx="174240" cy="174240"/>
                <a:chOff x="6433920" y="5037120"/>
                <a:chExt cx="174240" cy="174240"/>
              </a:xfrm>
            </p:grpSpPr>
            <p:sp>
              <p:nvSpPr>
                <p:cNvPr id="707" name="Oval 37"/>
                <p:cNvSpPr/>
                <p:nvPr/>
              </p:nvSpPr>
              <p:spPr>
                <a:xfrm>
                  <a:off x="6433920" y="503712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8" name="Picture 38" descr=""/>
                <p:cNvPicPr/>
                <p:nvPr/>
              </p:nvPicPr>
              <p:blipFill>
                <a:blip r:embed="rId1"/>
                <a:stretch/>
              </p:blipFill>
              <p:spPr>
                <a:xfrm flipH="1" rot="10800000">
                  <a:off x="6459120" y="507600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9" name="Group 55"/>
              <p:cNvGrpSpPr/>
              <p:nvPr/>
            </p:nvGrpSpPr>
            <p:grpSpPr>
              <a:xfrm>
                <a:off x="6433920" y="5251680"/>
                <a:ext cx="174240" cy="174240"/>
                <a:chOff x="6433920" y="5251680"/>
                <a:chExt cx="174240" cy="174240"/>
              </a:xfrm>
            </p:grpSpPr>
            <p:sp>
              <p:nvSpPr>
                <p:cNvPr id="710" name="Oval 35"/>
                <p:cNvSpPr/>
                <p:nvPr/>
              </p:nvSpPr>
              <p:spPr>
                <a:xfrm>
                  <a:off x="6433920" y="525168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11" name="Picture 36" descr=""/>
                <p:cNvPicPr/>
                <p:nvPr/>
              </p:nvPicPr>
              <p:blipFill>
                <a:blip r:embed="rId2"/>
                <a:stretch/>
              </p:blipFill>
              <p:spPr>
                <a:xfrm flipH="1" rot="10800000">
                  <a:off x="6459120" y="529092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12" name="Group 58"/>
              <p:cNvGrpSpPr/>
              <p:nvPr/>
            </p:nvGrpSpPr>
            <p:grpSpPr>
              <a:xfrm>
                <a:off x="6433920" y="5741640"/>
                <a:ext cx="174240" cy="174240"/>
                <a:chOff x="6433920" y="5741640"/>
                <a:chExt cx="174240" cy="174240"/>
              </a:xfrm>
            </p:grpSpPr>
            <p:sp>
              <p:nvSpPr>
                <p:cNvPr id="713" name="Oval 33"/>
                <p:cNvSpPr/>
                <p:nvPr/>
              </p:nvSpPr>
              <p:spPr>
                <a:xfrm>
                  <a:off x="6433920" y="574164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14" name="Picture 34" descr=""/>
                <p:cNvPicPr/>
                <p:nvPr/>
              </p:nvPicPr>
              <p:blipFill>
                <a:blip r:embed="rId3"/>
                <a:stretch/>
              </p:blipFill>
              <p:spPr>
                <a:xfrm flipH="1" rot="10800000">
                  <a:off x="6459120" y="578016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15" name="Group 61"/>
              <p:cNvGrpSpPr/>
              <p:nvPr/>
            </p:nvGrpSpPr>
            <p:grpSpPr>
              <a:xfrm>
                <a:off x="6433920" y="5514120"/>
                <a:ext cx="174240" cy="174240"/>
                <a:chOff x="6433920" y="5514120"/>
                <a:chExt cx="174240" cy="174240"/>
              </a:xfrm>
            </p:grpSpPr>
            <p:sp>
              <p:nvSpPr>
                <p:cNvPr id="716" name="Oval 31"/>
                <p:cNvSpPr/>
                <p:nvPr/>
              </p:nvSpPr>
              <p:spPr>
                <a:xfrm>
                  <a:off x="6433920" y="551412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17" name="Picture 32" descr=""/>
                <p:cNvPicPr/>
                <p:nvPr/>
              </p:nvPicPr>
              <p:blipFill>
                <a:blip r:embed="rId4"/>
                <a:stretch/>
              </p:blipFill>
              <p:spPr>
                <a:xfrm flipH="1" rot="10800000">
                  <a:off x="6459120" y="554868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18" name="Group 13"/>
            <p:cNvGrpSpPr/>
            <p:nvPr/>
          </p:nvGrpSpPr>
          <p:grpSpPr>
            <a:xfrm>
              <a:off x="5932440" y="6067800"/>
              <a:ext cx="932040" cy="933120"/>
              <a:chOff x="5932440" y="6067800"/>
              <a:chExt cx="932040" cy="933120"/>
            </a:xfrm>
          </p:grpSpPr>
          <p:sp>
            <p:nvSpPr>
              <p:cNvPr id="719" name="Oval 22"/>
              <p:cNvSpPr/>
              <p:nvPr/>
            </p:nvSpPr>
            <p:spPr>
              <a:xfrm>
                <a:off x="5932440" y="6067800"/>
                <a:ext cx="932040" cy="93312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Cube 23"/>
              <p:cNvSpPr/>
              <p:nvPr/>
            </p:nvSpPr>
            <p:spPr>
              <a:xfrm>
                <a:off x="6060960" y="6245280"/>
                <a:ext cx="642960" cy="35388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24"/>
              <p:cNvSpPr/>
              <p:nvPr/>
            </p:nvSpPr>
            <p:spPr>
              <a:xfrm>
                <a:off x="6189480" y="6309000"/>
                <a:ext cx="385920" cy="1602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25"/>
              <p:cNvSpPr/>
              <p:nvPr/>
            </p:nvSpPr>
            <p:spPr>
              <a:xfrm>
                <a:off x="6302520" y="6309000"/>
                <a:ext cx="160200" cy="9684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TextBox 22"/>
          <p:cNvSpPr/>
          <p:nvPr/>
        </p:nvSpPr>
        <p:spPr>
          <a:xfrm>
            <a:off x="2329920" y="219384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Lo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Box 23"/>
          <p:cNvSpPr/>
          <p:nvPr/>
        </p:nvSpPr>
        <p:spPr>
          <a:xfrm>
            <a:off x="3271320" y="40226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27"/>
          <p:cNvGrpSpPr/>
          <p:nvPr/>
        </p:nvGrpSpPr>
        <p:grpSpPr>
          <a:xfrm>
            <a:off x="2387520" y="3182760"/>
            <a:ext cx="401760" cy="401760"/>
            <a:chOff x="2387520" y="3182760"/>
            <a:chExt cx="401760" cy="401760"/>
          </a:xfrm>
        </p:grpSpPr>
        <p:sp>
          <p:nvSpPr>
            <p:cNvPr id="726" name="Oval 24"/>
            <p:cNvSpPr/>
            <p:nvPr/>
          </p:nvSpPr>
          <p:spPr>
            <a:xfrm>
              <a:off x="2387520" y="3182760"/>
              <a:ext cx="40176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7" name="Picture 25" descr=""/>
            <p:cNvPicPr/>
            <p:nvPr/>
          </p:nvPicPr>
          <p:blipFill>
            <a:blip r:embed="rId5"/>
            <a:stretch/>
          </p:blipFill>
          <p:spPr>
            <a:xfrm flipH="1" rot="10800000">
              <a:off x="2446920" y="327204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Group 28"/>
          <p:cNvGrpSpPr/>
          <p:nvPr/>
        </p:nvGrpSpPr>
        <p:grpSpPr>
          <a:xfrm>
            <a:off x="2387520" y="3678120"/>
            <a:ext cx="401760" cy="401760"/>
            <a:chOff x="2387520" y="3678120"/>
            <a:chExt cx="401760" cy="401760"/>
          </a:xfrm>
        </p:grpSpPr>
        <p:sp>
          <p:nvSpPr>
            <p:cNvPr id="729" name="Oval 29"/>
            <p:cNvSpPr/>
            <p:nvPr/>
          </p:nvSpPr>
          <p:spPr>
            <a:xfrm>
              <a:off x="2387520" y="3678120"/>
              <a:ext cx="40176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0" name="Picture 30" descr=""/>
            <p:cNvPicPr/>
            <p:nvPr/>
          </p:nvPicPr>
          <p:blipFill>
            <a:blip r:embed="rId6"/>
            <a:stretch/>
          </p:blipFill>
          <p:spPr>
            <a:xfrm flipH="1" rot="10800000">
              <a:off x="2446920" y="376740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1" name="Group 31"/>
          <p:cNvGrpSpPr/>
          <p:nvPr/>
        </p:nvGrpSpPr>
        <p:grpSpPr>
          <a:xfrm>
            <a:off x="2387520" y="4807080"/>
            <a:ext cx="401760" cy="401400"/>
            <a:chOff x="2387520" y="4807080"/>
            <a:chExt cx="401760" cy="401400"/>
          </a:xfrm>
        </p:grpSpPr>
        <p:sp>
          <p:nvSpPr>
            <p:cNvPr id="732" name="Oval 32"/>
            <p:cNvSpPr/>
            <p:nvPr/>
          </p:nvSpPr>
          <p:spPr>
            <a:xfrm>
              <a:off x="2387520" y="4807080"/>
              <a:ext cx="40176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3" name="Picture 33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2446920" y="489636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4" name="Group 34"/>
          <p:cNvGrpSpPr/>
          <p:nvPr/>
        </p:nvGrpSpPr>
        <p:grpSpPr>
          <a:xfrm>
            <a:off x="2387520" y="4281480"/>
            <a:ext cx="401760" cy="403200"/>
            <a:chOff x="2387520" y="4281480"/>
            <a:chExt cx="401760" cy="403200"/>
          </a:xfrm>
        </p:grpSpPr>
        <p:sp>
          <p:nvSpPr>
            <p:cNvPr id="735" name="Oval 35"/>
            <p:cNvSpPr/>
            <p:nvPr/>
          </p:nvSpPr>
          <p:spPr>
            <a:xfrm>
              <a:off x="2387520" y="4281480"/>
              <a:ext cx="40176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6" name="Picture 36" descr=""/>
            <p:cNvPicPr/>
            <p:nvPr/>
          </p:nvPicPr>
          <p:blipFill>
            <a:blip r:embed="rId8"/>
            <a:stretch/>
          </p:blipFill>
          <p:spPr>
            <a:xfrm flipH="1" rot="10800000">
              <a:off x="2446920" y="4371120"/>
              <a:ext cx="28260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7" name="Group 37"/>
          <p:cNvGrpSpPr/>
          <p:nvPr/>
        </p:nvGrpSpPr>
        <p:grpSpPr>
          <a:xfrm>
            <a:off x="4178160" y="3133800"/>
            <a:ext cx="401760" cy="403200"/>
            <a:chOff x="4178160" y="3133800"/>
            <a:chExt cx="401760" cy="403200"/>
          </a:xfrm>
        </p:grpSpPr>
        <p:sp>
          <p:nvSpPr>
            <p:cNvPr id="738" name="Oval 38"/>
            <p:cNvSpPr/>
            <p:nvPr/>
          </p:nvSpPr>
          <p:spPr>
            <a:xfrm>
              <a:off x="4178160" y="3133800"/>
              <a:ext cx="40176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9" name="Picture 39" descr=""/>
            <p:cNvPicPr/>
            <p:nvPr/>
          </p:nvPicPr>
          <p:blipFill>
            <a:blip r:embed="rId9"/>
            <a:stretch/>
          </p:blipFill>
          <p:spPr>
            <a:xfrm flipH="1" rot="10800000">
              <a:off x="4237560" y="3223440"/>
              <a:ext cx="28260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0" name="Group 40"/>
          <p:cNvGrpSpPr/>
          <p:nvPr/>
        </p:nvGrpSpPr>
        <p:grpSpPr>
          <a:xfrm>
            <a:off x="4178160" y="3629160"/>
            <a:ext cx="401760" cy="401400"/>
            <a:chOff x="4178160" y="3629160"/>
            <a:chExt cx="401760" cy="401400"/>
          </a:xfrm>
        </p:grpSpPr>
        <p:sp>
          <p:nvSpPr>
            <p:cNvPr id="741" name="Oval 41"/>
            <p:cNvSpPr/>
            <p:nvPr/>
          </p:nvSpPr>
          <p:spPr>
            <a:xfrm>
              <a:off x="4178160" y="3629160"/>
              <a:ext cx="40176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Picture 42" descr=""/>
            <p:cNvPicPr/>
            <p:nvPr/>
          </p:nvPicPr>
          <p:blipFill>
            <a:blip r:embed="rId10"/>
            <a:stretch/>
          </p:blipFill>
          <p:spPr>
            <a:xfrm flipH="1" rot="10800000">
              <a:off x="4237560" y="371844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3" name="Group 43"/>
          <p:cNvGrpSpPr/>
          <p:nvPr/>
        </p:nvGrpSpPr>
        <p:grpSpPr>
          <a:xfrm>
            <a:off x="4178160" y="4757760"/>
            <a:ext cx="401760" cy="403200"/>
            <a:chOff x="4178160" y="4757760"/>
            <a:chExt cx="401760" cy="403200"/>
          </a:xfrm>
        </p:grpSpPr>
        <p:sp>
          <p:nvSpPr>
            <p:cNvPr id="744" name="Oval 44"/>
            <p:cNvSpPr/>
            <p:nvPr/>
          </p:nvSpPr>
          <p:spPr>
            <a:xfrm>
              <a:off x="4178160" y="4757760"/>
              <a:ext cx="401760" cy="40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5" name="Picture 45" descr=""/>
            <p:cNvPicPr/>
            <p:nvPr/>
          </p:nvPicPr>
          <p:blipFill>
            <a:blip r:embed="rId11"/>
            <a:stretch/>
          </p:blipFill>
          <p:spPr>
            <a:xfrm flipH="1" rot="10800000">
              <a:off x="4237560" y="4847400"/>
              <a:ext cx="282600" cy="15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6" name="Group 46"/>
          <p:cNvGrpSpPr/>
          <p:nvPr/>
        </p:nvGrpSpPr>
        <p:grpSpPr>
          <a:xfrm>
            <a:off x="4178160" y="4233960"/>
            <a:ext cx="401760" cy="401400"/>
            <a:chOff x="4178160" y="4233960"/>
            <a:chExt cx="401760" cy="401400"/>
          </a:xfrm>
        </p:grpSpPr>
        <p:sp>
          <p:nvSpPr>
            <p:cNvPr id="747" name="Oval 47"/>
            <p:cNvSpPr/>
            <p:nvPr/>
          </p:nvSpPr>
          <p:spPr>
            <a:xfrm>
              <a:off x="4178160" y="4233960"/>
              <a:ext cx="40176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8" name="Picture 48" descr=""/>
            <p:cNvPicPr/>
            <p:nvPr/>
          </p:nvPicPr>
          <p:blipFill>
            <a:blip r:embed="rId12"/>
            <a:stretch/>
          </p:blipFill>
          <p:spPr>
            <a:xfrm flipH="1" rot="10800000">
              <a:off x="4237560" y="4323240"/>
              <a:ext cx="28260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9" name="Group 67"/>
          <p:cNvGrpSpPr/>
          <p:nvPr/>
        </p:nvGrpSpPr>
        <p:grpSpPr>
          <a:xfrm>
            <a:off x="7502400" y="5472000"/>
            <a:ext cx="933480" cy="2103480"/>
            <a:chOff x="7502400" y="5472000"/>
            <a:chExt cx="933480" cy="2103480"/>
          </a:xfrm>
        </p:grpSpPr>
        <p:grpSp>
          <p:nvGrpSpPr>
            <p:cNvPr id="750" name="Group 67"/>
            <p:cNvGrpSpPr/>
            <p:nvPr/>
          </p:nvGrpSpPr>
          <p:grpSpPr>
            <a:xfrm>
              <a:off x="7827120" y="5472000"/>
              <a:ext cx="351720" cy="1387440"/>
              <a:chOff x="7827120" y="5472000"/>
              <a:chExt cx="351720" cy="1387440"/>
            </a:xfrm>
          </p:grpSpPr>
          <p:grpSp>
            <p:nvGrpSpPr>
              <p:cNvPr id="751" name="Group 74"/>
              <p:cNvGrpSpPr/>
              <p:nvPr/>
            </p:nvGrpSpPr>
            <p:grpSpPr>
              <a:xfrm>
                <a:off x="7827120" y="5472000"/>
                <a:ext cx="264600" cy="1387440"/>
                <a:chOff x="7827120" y="5472000"/>
                <a:chExt cx="264600" cy="1387440"/>
              </a:xfrm>
            </p:grpSpPr>
            <p:sp>
              <p:nvSpPr>
                <p:cNvPr id="752" name="Left Bracket 87"/>
                <p:cNvSpPr/>
                <p:nvPr/>
              </p:nvSpPr>
              <p:spPr>
                <a:xfrm>
                  <a:off x="7827120" y="5472000"/>
                  <a:ext cx="132120" cy="1387440"/>
                </a:xfrm>
                <a:custGeom>
                  <a:avLst/>
                  <a:gdLst>
                    <a:gd name="textAreaLeft" fmla="*/ 38880 w 132120"/>
                    <a:gd name="textAreaRight" fmla="*/ 132480 w 132120"/>
                    <a:gd name="textAreaTop" fmla="*/ 68760 h 1387440"/>
                    <a:gd name="textAreaBottom" fmla="*/ 131868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73"/>
                        <a:pt x="0" y="2146"/>
                      </a:cubicBezTo>
                      <a:lnTo>
                        <a:pt x="0" y="19454"/>
                      </a:lnTo>
                      <a:cubicBezTo>
                        <a:pt x="0" y="20527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eft Bracket 88"/>
                <p:cNvSpPr/>
                <p:nvPr/>
              </p:nvSpPr>
              <p:spPr>
                <a:xfrm flipH="1">
                  <a:off x="7959240" y="5472000"/>
                  <a:ext cx="132480" cy="1387440"/>
                </a:xfrm>
                <a:custGeom>
                  <a:avLst/>
                  <a:gdLst>
                    <a:gd name="textAreaLeft" fmla="*/ 39240 w 132480"/>
                    <a:gd name="textAreaRight" fmla="*/ 133200 w 132480"/>
                    <a:gd name="textAreaTop" fmla="*/ 66600 h 1387440"/>
                    <a:gd name="textAreaBottom" fmla="*/ 132084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1"/>
                        <a:pt x="0" y="2082"/>
                      </a:cubicBezTo>
                      <a:lnTo>
                        <a:pt x="0" y="19518"/>
                      </a:lnTo>
                      <a:cubicBezTo>
                        <a:pt x="0" y="20559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Group 75"/>
              <p:cNvGrpSpPr/>
              <p:nvPr/>
            </p:nvGrpSpPr>
            <p:grpSpPr>
              <a:xfrm>
                <a:off x="8004240" y="5613120"/>
                <a:ext cx="174600" cy="174240"/>
                <a:chOff x="8004240" y="5613120"/>
                <a:chExt cx="174600" cy="174240"/>
              </a:xfrm>
            </p:grpSpPr>
            <p:sp>
              <p:nvSpPr>
                <p:cNvPr id="755" name="Oval 85"/>
                <p:cNvSpPr/>
                <p:nvPr/>
              </p:nvSpPr>
              <p:spPr>
                <a:xfrm>
                  <a:off x="8004240" y="561312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56" name="Picture 86" descr=""/>
                <p:cNvPicPr/>
                <p:nvPr/>
              </p:nvPicPr>
              <p:blipFill>
                <a:blip r:embed="rId13"/>
                <a:stretch/>
              </p:blipFill>
              <p:spPr>
                <a:xfrm flipH="1" rot="10800000">
                  <a:off x="8030520" y="565164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57" name="Group 76"/>
              <p:cNvGrpSpPr/>
              <p:nvPr/>
            </p:nvGrpSpPr>
            <p:grpSpPr>
              <a:xfrm>
                <a:off x="8004240" y="5827680"/>
                <a:ext cx="174600" cy="174240"/>
                <a:chOff x="8004240" y="5827680"/>
                <a:chExt cx="174600" cy="174240"/>
              </a:xfrm>
            </p:grpSpPr>
            <p:sp>
              <p:nvSpPr>
                <p:cNvPr id="758" name="Oval 83"/>
                <p:cNvSpPr/>
                <p:nvPr/>
              </p:nvSpPr>
              <p:spPr>
                <a:xfrm>
                  <a:off x="8004240" y="582768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59" name="Picture 84" descr=""/>
                <p:cNvPicPr/>
                <p:nvPr/>
              </p:nvPicPr>
              <p:blipFill>
                <a:blip r:embed="rId14"/>
                <a:stretch/>
              </p:blipFill>
              <p:spPr>
                <a:xfrm flipH="1" rot="10800000">
                  <a:off x="8030520" y="586656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60" name="Group 77"/>
              <p:cNvGrpSpPr/>
              <p:nvPr/>
            </p:nvGrpSpPr>
            <p:grpSpPr>
              <a:xfrm>
                <a:off x="8004240" y="6317280"/>
                <a:ext cx="174600" cy="174240"/>
                <a:chOff x="8004240" y="6317280"/>
                <a:chExt cx="174600" cy="174240"/>
              </a:xfrm>
            </p:grpSpPr>
            <p:sp>
              <p:nvSpPr>
                <p:cNvPr id="761" name="Oval 81"/>
                <p:cNvSpPr/>
                <p:nvPr/>
              </p:nvSpPr>
              <p:spPr>
                <a:xfrm>
                  <a:off x="8004240" y="631728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62" name="Picture 82" descr=""/>
                <p:cNvPicPr/>
                <p:nvPr/>
              </p:nvPicPr>
              <p:blipFill>
                <a:blip r:embed="rId15"/>
                <a:stretch/>
              </p:blipFill>
              <p:spPr>
                <a:xfrm flipH="1" rot="10800000">
                  <a:off x="8030520" y="635652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63" name="Group 78"/>
              <p:cNvGrpSpPr/>
              <p:nvPr/>
            </p:nvGrpSpPr>
            <p:grpSpPr>
              <a:xfrm>
                <a:off x="8004240" y="6089760"/>
                <a:ext cx="174600" cy="174240"/>
                <a:chOff x="8004240" y="6089760"/>
                <a:chExt cx="174600" cy="174240"/>
              </a:xfrm>
            </p:grpSpPr>
            <p:sp>
              <p:nvSpPr>
                <p:cNvPr id="764" name="Oval 79"/>
                <p:cNvSpPr/>
                <p:nvPr/>
              </p:nvSpPr>
              <p:spPr>
                <a:xfrm>
                  <a:off x="8004240" y="6089760"/>
                  <a:ext cx="17460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65" name="Picture 80" descr=""/>
                <p:cNvPicPr/>
                <p:nvPr/>
              </p:nvPicPr>
              <p:blipFill>
                <a:blip r:embed="rId16"/>
                <a:stretch/>
              </p:blipFill>
              <p:spPr>
                <a:xfrm flipH="1" rot="10800000">
                  <a:off x="8030520" y="6128640"/>
                  <a:ext cx="12276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66" name="Group 68"/>
            <p:cNvGrpSpPr/>
            <p:nvPr/>
          </p:nvGrpSpPr>
          <p:grpSpPr>
            <a:xfrm>
              <a:off x="7502400" y="6643080"/>
              <a:ext cx="933480" cy="932400"/>
              <a:chOff x="7502400" y="6643080"/>
              <a:chExt cx="933480" cy="932400"/>
            </a:xfrm>
          </p:grpSpPr>
          <p:sp>
            <p:nvSpPr>
              <p:cNvPr id="767" name="Oval 70"/>
              <p:cNvSpPr/>
              <p:nvPr/>
            </p:nvSpPr>
            <p:spPr>
              <a:xfrm>
                <a:off x="7502400" y="6643080"/>
                <a:ext cx="933480" cy="93240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Cube 71"/>
              <p:cNvSpPr/>
              <p:nvPr/>
            </p:nvSpPr>
            <p:spPr>
              <a:xfrm>
                <a:off x="7630920" y="6819120"/>
                <a:ext cx="644760" cy="35424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72"/>
              <p:cNvSpPr/>
              <p:nvPr/>
            </p:nvSpPr>
            <p:spPr>
              <a:xfrm>
                <a:off x="7759440" y="6884280"/>
                <a:ext cx="387360" cy="1602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73"/>
              <p:cNvSpPr/>
              <p:nvPr/>
            </p:nvSpPr>
            <p:spPr>
              <a:xfrm>
                <a:off x="7872120" y="6884280"/>
                <a:ext cx="161640" cy="9684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1" name="Group 89"/>
          <p:cNvGrpSpPr/>
          <p:nvPr/>
        </p:nvGrpSpPr>
        <p:grpSpPr>
          <a:xfrm>
            <a:off x="4809960" y="5929200"/>
            <a:ext cx="932040" cy="2103480"/>
            <a:chOff x="4809960" y="5929200"/>
            <a:chExt cx="932040" cy="2103480"/>
          </a:xfrm>
        </p:grpSpPr>
        <p:grpSp>
          <p:nvGrpSpPr>
            <p:cNvPr id="772" name="Group 91"/>
            <p:cNvGrpSpPr/>
            <p:nvPr/>
          </p:nvGrpSpPr>
          <p:grpSpPr>
            <a:xfrm>
              <a:off x="5134320" y="5929200"/>
              <a:ext cx="351360" cy="1387440"/>
              <a:chOff x="5134320" y="5929200"/>
              <a:chExt cx="351360" cy="1387440"/>
            </a:xfrm>
          </p:grpSpPr>
          <p:grpSp>
            <p:nvGrpSpPr>
              <p:cNvPr id="773" name="Group 97"/>
              <p:cNvGrpSpPr/>
              <p:nvPr/>
            </p:nvGrpSpPr>
            <p:grpSpPr>
              <a:xfrm>
                <a:off x="5134320" y="5929200"/>
                <a:ext cx="263880" cy="1387440"/>
                <a:chOff x="5134320" y="5929200"/>
                <a:chExt cx="263880" cy="1387440"/>
              </a:xfrm>
            </p:grpSpPr>
            <p:sp>
              <p:nvSpPr>
                <p:cNvPr id="774" name="Left Bracket 109"/>
                <p:cNvSpPr/>
                <p:nvPr/>
              </p:nvSpPr>
              <p:spPr>
                <a:xfrm>
                  <a:off x="5134320" y="5929200"/>
                  <a:ext cx="132840" cy="1387440"/>
                </a:xfrm>
                <a:custGeom>
                  <a:avLst/>
                  <a:gdLst>
                    <a:gd name="textAreaLeft" fmla="*/ 38880 w 132840"/>
                    <a:gd name="textAreaRight" fmla="*/ 133200 w 132840"/>
                    <a:gd name="textAreaTop" fmla="*/ 69840 h 1387440"/>
                    <a:gd name="textAreaBottom" fmla="*/ 131760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88"/>
                        <a:pt x="0" y="2175"/>
                      </a:cubicBezTo>
                      <a:lnTo>
                        <a:pt x="0" y="19425"/>
                      </a:lnTo>
                      <a:cubicBezTo>
                        <a:pt x="0" y="20513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eft Bracket 110"/>
                <p:cNvSpPr/>
                <p:nvPr/>
              </p:nvSpPr>
              <p:spPr>
                <a:xfrm flipH="1">
                  <a:off x="5266440" y="5929200"/>
                  <a:ext cx="131400" cy="1387440"/>
                </a:xfrm>
                <a:custGeom>
                  <a:avLst/>
                  <a:gdLst>
                    <a:gd name="textAreaLeft" fmla="*/ 38520 w 131400"/>
                    <a:gd name="textAreaRight" fmla="*/ 131760 w 131400"/>
                    <a:gd name="textAreaTop" fmla="*/ 66960 h 1387440"/>
                    <a:gd name="textAreaBottom" fmla="*/ 1320480 h 1387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1043"/>
                        <a:pt x="0" y="2085"/>
                      </a:cubicBezTo>
                      <a:lnTo>
                        <a:pt x="0" y="19515"/>
                      </a:lnTo>
                      <a:cubicBezTo>
                        <a:pt x="0" y="20558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Group 98"/>
              <p:cNvGrpSpPr/>
              <p:nvPr/>
            </p:nvGrpSpPr>
            <p:grpSpPr>
              <a:xfrm>
                <a:off x="5311440" y="6070320"/>
                <a:ext cx="174240" cy="174240"/>
                <a:chOff x="5311440" y="6070320"/>
                <a:chExt cx="174240" cy="174240"/>
              </a:xfrm>
            </p:grpSpPr>
            <p:sp>
              <p:nvSpPr>
                <p:cNvPr id="777" name="Oval 107"/>
                <p:cNvSpPr/>
                <p:nvPr/>
              </p:nvSpPr>
              <p:spPr>
                <a:xfrm>
                  <a:off x="5311440" y="607032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78" name="Picture 108" descr=""/>
                <p:cNvPicPr/>
                <p:nvPr/>
              </p:nvPicPr>
              <p:blipFill>
                <a:blip r:embed="rId17"/>
                <a:stretch/>
              </p:blipFill>
              <p:spPr>
                <a:xfrm flipH="1" rot="10800000">
                  <a:off x="5336640" y="610884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79" name="Group 99"/>
              <p:cNvGrpSpPr/>
              <p:nvPr/>
            </p:nvGrpSpPr>
            <p:grpSpPr>
              <a:xfrm>
                <a:off x="5311440" y="6284880"/>
                <a:ext cx="174240" cy="174240"/>
                <a:chOff x="5311440" y="6284880"/>
                <a:chExt cx="174240" cy="174240"/>
              </a:xfrm>
            </p:grpSpPr>
            <p:sp>
              <p:nvSpPr>
                <p:cNvPr id="780" name="Oval 105"/>
                <p:cNvSpPr/>
                <p:nvPr/>
              </p:nvSpPr>
              <p:spPr>
                <a:xfrm>
                  <a:off x="5311440" y="628488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81" name="Picture 106" descr=""/>
                <p:cNvPicPr/>
                <p:nvPr/>
              </p:nvPicPr>
              <p:blipFill>
                <a:blip r:embed="rId18"/>
                <a:stretch/>
              </p:blipFill>
              <p:spPr>
                <a:xfrm flipH="1" rot="10800000">
                  <a:off x="5336640" y="632376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2" name="Group 100"/>
              <p:cNvGrpSpPr/>
              <p:nvPr/>
            </p:nvGrpSpPr>
            <p:grpSpPr>
              <a:xfrm>
                <a:off x="5311440" y="6774480"/>
                <a:ext cx="174240" cy="174240"/>
                <a:chOff x="5311440" y="6774480"/>
                <a:chExt cx="174240" cy="174240"/>
              </a:xfrm>
            </p:grpSpPr>
            <p:sp>
              <p:nvSpPr>
                <p:cNvPr id="783" name="Oval 103"/>
                <p:cNvSpPr/>
                <p:nvPr/>
              </p:nvSpPr>
              <p:spPr>
                <a:xfrm>
                  <a:off x="5311440" y="677448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84" name="Picture 104" descr=""/>
                <p:cNvPicPr/>
                <p:nvPr/>
              </p:nvPicPr>
              <p:blipFill>
                <a:blip r:embed="rId19"/>
                <a:stretch/>
              </p:blipFill>
              <p:spPr>
                <a:xfrm flipH="1" rot="10800000">
                  <a:off x="5336640" y="681372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5" name="Group 101"/>
              <p:cNvGrpSpPr/>
              <p:nvPr/>
            </p:nvGrpSpPr>
            <p:grpSpPr>
              <a:xfrm>
                <a:off x="5311440" y="6546960"/>
                <a:ext cx="174240" cy="174240"/>
                <a:chOff x="5311440" y="6546960"/>
                <a:chExt cx="174240" cy="174240"/>
              </a:xfrm>
            </p:grpSpPr>
            <p:sp>
              <p:nvSpPr>
                <p:cNvPr id="786" name="Oval 101"/>
                <p:cNvSpPr/>
                <p:nvPr/>
              </p:nvSpPr>
              <p:spPr>
                <a:xfrm>
                  <a:off x="5311440" y="6546960"/>
                  <a:ext cx="174240" cy="174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87" name="Picture 102" descr=""/>
                <p:cNvPicPr/>
                <p:nvPr/>
              </p:nvPicPr>
              <p:blipFill>
                <a:blip r:embed="rId20"/>
                <a:stretch/>
              </p:blipFill>
              <p:spPr>
                <a:xfrm flipH="1" rot="10800000">
                  <a:off x="5336640" y="6585840"/>
                  <a:ext cx="122400" cy="6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88" name="Group 92"/>
            <p:cNvGrpSpPr/>
            <p:nvPr/>
          </p:nvGrpSpPr>
          <p:grpSpPr>
            <a:xfrm>
              <a:off x="4809960" y="7100280"/>
              <a:ext cx="932040" cy="932400"/>
              <a:chOff x="4809960" y="7100280"/>
              <a:chExt cx="932040" cy="932400"/>
            </a:xfrm>
          </p:grpSpPr>
          <p:sp>
            <p:nvSpPr>
              <p:cNvPr id="789" name="Oval 92"/>
              <p:cNvSpPr/>
              <p:nvPr/>
            </p:nvSpPr>
            <p:spPr>
              <a:xfrm>
                <a:off x="4809960" y="7100280"/>
                <a:ext cx="932040" cy="932400"/>
              </a:xfrm>
              <a:prstGeom prst="ellipse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Cube 93"/>
              <p:cNvSpPr/>
              <p:nvPr/>
            </p:nvSpPr>
            <p:spPr>
              <a:xfrm>
                <a:off x="4938480" y="7276320"/>
                <a:ext cx="642960" cy="354240"/>
              </a:xfrm>
              <a:prstGeom prst="cube">
                <a:avLst>
                  <a:gd name="adj" fmla="val 6708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Rectangle 94"/>
              <p:cNvSpPr/>
              <p:nvPr/>
            </p:nvSpPr>
            <p:spPr>
              <a:xfrm>
                <a:off x="5067000" y="7341480"/>
                <a:ext cx="385920" cy="160200"/>
              </a:xfrm>
              <a:prstGeom prst="rect">
                <a:avLst/>
              </a:prstGeom>
              <a:solidFill>
                <a:srgbClr val="d9d9d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Rectangle 95"/>
              <p:cNvSpPr/>
              <p:nvPr/>
            </p:nvSpPr>
            <p:spPr>
              <a:xfrm>
                <a:off x="5180040" y="7341480"/>
                <a:ext cx="160200" cy="96840"/>
              </a:xfrm>
              <a:prstGeom prst="rect">
                <a:avLst/>
              </a:prstGeom>
              <a:gradFill rotWithShape="0">
                <a:gsLst>
                  <a:gs pos="0">
                    <a:srgbClr val="85ffdb"/>
                  </a:gs>
                  <a:gs pos="100000">
                    <a:srgbClr val="00eba8"/>
                  </a:gs>
                </a:gsLst>
                <a:lin ang="5400000"/>
              </a:gradFill>
              <a:ln w="9360">
                <a:solidFill>
                  <a:srgbClr val="00cc98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3" name="TextBox 111"/>
          <p:cNvSpPr/>
          <p:nvPr/>
        </p:nvSpPr>
        <p:spPr>
          <a:xfrm>
            <a:off x="5799240" y="766908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112" descr=""/>
          <p:cNvPicPr/>
          <p:nvPr/>
        </p:nvPicPr>
        <p:blipFill>
          <a:blip r:embed="rId21"/>
          <a:stretch/>
        </p:blipFill>
        <p:spPr>
          <a:xfrm>
            <a:off x="1025640" y="4896000"/>
            <a:ext cx="825480" cy="901440"/>
          </a:xfrm>
          <a:prstGeom prst="rect">
            <a:avLst/>
          </a:prstGeom>
          <a:ln w="0">
            <a:noFill/>
          </a:ln>
        </p:spPr>
      </p:pic>
      <p:cxnSp>
        <p:nvCxnSpPr>
          <p:cNvPr id="795" name="Shape 113"/>
          <p:cNvCxnSpPr/>
          <p:nvPr/>
        </p:nvCxnSpPr>
        <p:spPr>
          <a:xfrm flipH="1" rot="16200000">
            <a:off x="1931040" y="5304240"/>
            <a:ext cx="278280" cy="126432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96" name="TextBox 114"/>
          <p:cNvSpPr/>
          <p:nvPr/>
        </p:nvSpPr>
        <p:spPr>
          <a:xfrm>
            <a:off x="317520" y="6189840"/>
            <a:ext cx="204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9:27:22Z</dcterms:created>
  <dc:creator>C Smythe</dc:creator>
  <dc:description/>
  <dc:language>en-US</dc:language>
  <cp:lastModifiedBy>Colin Smythe</cp:lastModifiedBy>
  <cp:lastPrinted>2008-02-19T11:08:18Z</cp:lastPrinted>
  <dcterms:modified xsi:type="dcterms:W3CDTF">2009-05-04T20:03:54Z</dcterms:modified>
  <cp:revision>262</cp:revision>
  <dc:subject/>
  <dc:title>No Slide Title</dc:title>
</cp:coreProperties>
</file>