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1C05-ACB3-43DC-BB19-3903537347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6D91-022A-49B4-B936-6D5BFEF0B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1328-6AC1-4D54-8D3C-0E134405D2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BC3-6BD8-4F4C-BA7C-B21B53E724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5D11-9E09-4C2B-8B0C-7D670CC1C2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9D83-38E7-4D15-A1C2-8AAB9A073B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DDB9-8C65-400D-BB5E-D048334C7E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F762-5FBF-4C1F-B108-F125985D92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8C51-83A1-488B-BB91-9FE5D5E500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77A-5224-46C2-9E4A-43D6160BDC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10F9-6303-4FAF-9107-77384BCEB3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1DB7-5ACF-4EE7-B7A6-5240CAB238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D254-A752-45D3-962B-9873D6079E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1DF6-34AD-4B54-89C4-EB7A11C92A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E21C-8ADD-429A-BE2A-FBB02E6B5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EE94-077F-4C21-9A94-33A7AA30594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61C0C-20D8-4F68-99C3-CC807FF2492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44D84-065D-412E-B945-D8E95CC954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FD3C1-C116-4084-ABE0-8A62657D4E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A720-E111-436C-8EA1-33A84F7D45A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DF31-4EE8-4DF3-BFE6-10D8FE38348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3A13E-2E99-4477-AB4B-0480E6C2A6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48F2-AE88-42F0-A73F-BEFE5F27E5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0FABD-3100-40D6-A33F-3DDCCEA1A6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ABFBA-2672-41B0-938C-678E1E11F7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48B7D4-540A-4B6F-984C-8E468784E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299C-BFF3-434F-8E2D-7B59F0E5F71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7E92B-F3C5-443A-9825-8189DA26A6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518409-FBBA-4E6F-A222-30802981A36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BF665-3818-482A-99F3-4226A311875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77931-1E69-42BF-9457-8779CCA3960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1C296-E428-45C3-92D2-9DCECC6CF79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BAFE2-50DF-421B-A2E6-E61FA26F541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B4B880-10F6-448B-B2D6-C147CF091B2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8F2251-A9EC-4F4A-B6A4-DB4EE8CDD6C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DE5F4E-41B2-4919-820C-D0EB41489F7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8FB56-0909-46C9-90D9-6C054F08A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F86F-21B7-4AE6-B34A-8F1165B2EB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4A538-C263-4B25-A9C7-E4793AD747C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E51AE2-5E93-4716-8775-F9E08A41869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923121-22D7-4F2D-B22F-76B65BD1A98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067001-3D32-491C-8842-43B39E4DDE0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D2067D-3B7B-45E7-82AF-E9FDC3F04D5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E5323A-23BA-49E3-B11D-E1F508ED215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E2B614-D762-42AB-B82C-8FE903836C8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A00E7E-9411-4BC0-A7DD-2AFD4FF4BF6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7AFC15-7077-4FBD-B1C5-80B3F08363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1FDD3D-49A6-40F6-B3A8-2E0330B22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27B9A-318A-4F15-8B4F-6B257E97681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87812D-D6AE-4557-B3B5-A31FDD5CC0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17EB84-5BFF-4234-A145-C8B05C972F3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B060FE-FF8F-4E36-907F-457575DFB8F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C28F8-B42B-42B3-8B97-F5268673893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EF9FE-F735-42D1-9367-68CA60851E9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39ADF-3C45-471D-874B-6FAC3659E52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3CEE-C5BA-4FDF-B7B5-62EC09D3D98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3B4DC-B1FB-468E-9B61-EDFE14D5BBC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DCF63-CBCF-460B-8976-F101F820244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B2C38-5C6D-4113-BCD3-4EC20C22E7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75BBC-03FF-477E-BD8A-9A84F42907B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A014-6F99-4256-B7F4-911FCEB83CB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174CF-F898-4441-9E92-E7489EE4AF2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2AA5A-65A2-43BF-899C-D771AF88D7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65972-9916-4C8D-9CDB-AD8AC8F0E8A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3ABC1-8A81-4212-8C81-A8A34B50676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C84C5-2BCE-457E-8471-AAF7CC549FA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8D4AE0-1673-465A-8646-9C30F924239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9C47C5-E254-4AA1-A848-322877B874D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816A94-66FF-4AE0-B372-8F4BC73624F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F3A76E-1C9F-4622-855B-CEF3A13140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B0453-A869-4525-87D6-D11DE8FBCCF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B1373-F957-4125-B628-8CC9410B524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5C3E7-C3C2-4450-84D9-9435C80EB4D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E452C-C9AE-47E5-84C6-8C5DB8BE89A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402560-0908-461A-A578-F555C5B6B72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53E957-8DAE-40B2-A0F6-C97F7642BE0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3E83E9-4251-47DC-A1D3-0761A83E307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7F5F5E-11E9-4B01-A765-3813B346FE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08BB4-45B9-485D-95CF-D2881A7D72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9DE82-A3DE-4996-8D70-82D99FBE9F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477C4-5E15-4E2D-9981-AA7D4CC335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239BC-7189-4CE5-85AE-8E3ACA51EA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3D22-EDFB-4CE6-9F1D-DB7CFBD85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B48C1-A3CE-4846-8853-4D2EA5AC1F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51A77-588F-4864-98F2-525454F3EA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204B2-B922-4679-B209-7BF2AC826B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8B993-4B70-4407-8BC5-E1CF33B428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16CD2-47BD-431B-8A78-0335F739F9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E10B-9BA1-4863-ADB8-888DEAD440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576E-F095-4044-AFBD-C44D11ABD5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D5C5-3E83-4185-9062-5FF8F9A2F8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F9F8-9CE6-424E-81FB-965C08E69F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80E8-EB5A-4C28-B4F8-F0C70A2FB0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5FB3-1B35-48F6-A332-063753AD0B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10DF-6874-402C-A916-9B86BB75C4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4100-6374-49C5-9615-C22FE7A8B5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3FA7-31E8-4605-8FD6-7447A677EA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9707-FC3A-409C-BB3F-D57C2F55A1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60F9-DBC8-44E2-A67F-34FD2CEDD9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757C-B4CC-4C45-8F3F-3507FF04C1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1EC7-744F-438E-995C-F1DBE23840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0BCE4-47CC-4FAB-A339-361690D0CB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3F8BC-2232-4A5D-8CD0-6DB32F78A2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71871-A7D6-48EB-8F64-1760E9C96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1D10-1351-4EC6-BEA8-95F3EBDE45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DC436-9448-495D-A2C3-DC1E9FF781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8AE58-32DD-4EAB-B128-B6AB34332C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B5E27-4E4D-4716-AA2D-2B67F39BE4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B2D88-F1CD-488D-ACC0-EE82F01EAD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9DDB8-8C27-429E-8E8E-DE23ADB2CE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1DF71-39DC-4E1A-82A0-4999FB2CD1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2C5C4-7E4D-4CE0-9354-C8CDC5ABF7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5E92E-3772-4935-80D5-1D3360628D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6A33F-CCFB-4C64-9B25-7E47C0F33C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4B03A-1F01-4109-A2DA-F892CAFBA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E27E-23AA-413A-8915-6FDFFC0447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76B9D-B891-4F27-889D-581BD789C98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2BEE1-7373-4F9B-A737-414C57BD82E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E5ACB-4F08-453B-B2BD-9B433C8EA2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202760-B012-4E1A-A2B2-0D792FE66B7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833FD-0BF0-4FDF-A9C8-620C59796D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9F293-EDB5-4575-947A-22E87A05194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E2F1F0-1DE8-4450-9617-FD80E74E03F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F445D-CD3E-4367-BE69-0BC08653EA4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96E86-97A1-46EF-ABE2-94EE03AD224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79B7D5-624C-43A4-BBED-8C9ECD4C0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6D05-D3AB-4F84-A7D9-A17F86C773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C6D51-376C-4286-90C4-C5A7521CEE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3762-5CC5-4684-9708-FC99CD1854B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1C4C-5E74-4F40-AD36-E7F53C168E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81B69-9B20-4103-8D39-60609645F1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B802-77E6-4D43-AB69-615625E934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9F1C-272A-4F00-9CF7-4E7238FC2B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7A41-48CD-4F27-86B0-6022F34A7F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A2542-712C-4CF1-932A-3D021D62789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DD709-0B5A-454E-A9C5-E960FD0170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B317E-9297-467F-8C2B-4DF37FD85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CA1F-E975-4B72-8B62-B794069348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2073-1713-4BFF-AD88-75C30339D02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37437-1302-4B0D-8AE7-DE7E63B53DF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F73E8-AF90-4834-AAF4-EA5153492E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47709-31C0-41BD-AEC6-2BF4ECF91B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812C5-4DDC-4109-AA6E-EB908B2B011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09E3D-5979-4D49-B6FC-44D2981756A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74B27-B27E-4687-98C8-60D684DF61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594E6-4525-41E5-986D-11C4FFC7594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20DC4-570D-449E-B641-4A22E1A775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5FE38-E75D-4C0D-BE52-6FB5239BB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671C-6724-4445-A8D6-9611289C6F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120A2-F6A9-4FB6-8628-46081521E53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1CC65-E5DA-4CDA-9795-43DF9D61431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4B655-9944-4040-A77F-25B2236E28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23429-A697-4FBB-BC9C-A7466B8200E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A7F61-871C-4451-9D73-C425ADAAEC5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406FC2-BA4F-4117-9D4A-ED688E19042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DA694-E6F3-4803-BE29-E81749B302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87F06F-7F9C-4A73-B995-77F6969658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10D2D8-7A6A-4015-8942-D323B9D3277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2122AF-C583-4147-B0A5-6B23CA44E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1A5B-B9B1-4511-A355-AA902FAD304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DDA6CC-AD50-4FD5-B89E-C3D9241AE9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173304-137E-4C2C-A971-D5A2153E555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50CDD-D17B-442F-A5F5-123CC89030E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A1A2D5-0543-4221-B0E7-E9A37580CC8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6A7BEA-CF3D-407E-8B37-39661DD621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8FA240-4F32-4016-894B-3E4D785B3F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88F412-8311-4FB5-9C44-FEE7653C09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C20DD-1E84-4D83-9902-1C81D47AE0A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614B2-47CB-403F-BCB7-D77E90EB499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82724-239E-45BF-BAB1-B22E6B3A9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B3AA-9CAB-4DD8-8AE1-EBC6BCF5269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1E5-7EB8-454C-84EA-4158C9FD3D9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A09F-E57E-4155-8E34-66365B8F907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F912-2986-4A4A-83A2-5AB52D838B7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A417-E81E-4C52-8EA5-A18835281A7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9F86-279E-4568-83ED-0F4AAD51EE3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942F-DBC5-4700-BD8A-CF057741CA6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3ED4-E786-48CD-B00E-3825F125280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BF1D-F390-48FF-9DD6-E04796462D4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B7A0-7B92-446C-ABE9-C656D0ECC7B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436A-FA88-499E-AB8C-8F5804C8313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19E6-7EC0-4F84-B710-58C29E1E63F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114B-2481-41D3-A14C-42631DC14C9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389D-23EF-41EE-BADB-703E2BC5B8B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6 – Core Technology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EB65-02C5-4E9B-9C24-74251F45536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PIs, Protocols and Interfa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765" name="Group 72"/>
          <p:cNvGrpSpPr/>
          <p:nvPr/>
        </p:nvGrpSpPr>
        <p:grpSpPr>
          <a:xfrm>
            <a:off x="6091200" y="4151160"/>
            <a:ext cx="2851200" cy="838440"/>
            <a:chOff x="6091200" y="4151160"/>
            <a:chExt cx="2851200" cy="838440"/>
          </a:xfrm>
        </p:grpSpPr>
        <p:grpSp>
          <p:nvGrpSpPr>
            <p:cNvPr id="766" name="Group 73"/>
            <p:cNvGrpSpPr/>
            <p:nvPr/>
          </p:nvGrpSpPr>
          <p:grpSpPr>
            <a:xfrm>
              <a:off x="6091200" y="4151160"/>
              <a:ext cx="1361880" cy="838440"/>
              <a:chOff x="6091200" y="4151160"/>
              <a:chExt cx="1361880" cy="838440"/>
            </a:xfrm>
          </p:grpSpPr>
          <p:sp>
            <p:nvSpPr>
              <p:cNvPr id="767" name="Rectangle 74"/>
              <p:cNvSpPr/>
              <p:nvPr/>
            </p:nvSpPr>
            <p:spPr>
              <a:xfrm>
                <a:off x="6091200" y="4151160"/>
                <a:ext cx="1361880" cy="838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Text Box 75"/>
              <p:cNvSpPr/>
              <p:nvPr/>
            </p:nvSpPr>
            <p:spPr>
              <a:xfrm>
                <a:off x="6108120" y="4259160"/>
                <a:ext cx="129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n-the-w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76"/>
            <p:cNvGrpSpPr/>
            <p:nvPr/>
          </p:nvGrpSpPr>
          <p:grpSpPr>
            <a:xfrm>
              <a:off x="7435800" y="4151160"/>
              <a:ext cx="1506600" cy="838080"/>
              <a:chOff x="7435800" y="4151160"/>
              <a:chExt cx="1506600" cy="838080"/>
            </a:xfrm>
          </p:grpSpPr>
          <p:sp>
            <p:nvSpPr>
              <p:cNvPr id="770" name="Rectangle 77"/>
              <p:cNvSpPr/>
              <p:nvPr/>
            </p:nvSpPr>
            <p:spPr>
              <a:xfrm>
                <a:off x="7435800" y="4151160"/>
                <a:ext cx="15066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Text Box 78"/>
              <p:cNvSpPr/>
              <p:nvPr/>
            </p:nvSpPr>
            <p:spPr>
              <a:xfrm>
                <a:off x="7556760" y="4262040"/>
                <a:ext cx="126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rovid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Group 79"/>
          <p:cNvGrpSpPr/>
          <p:nvPr/>
        </p:nvGrpSpPr>
        <p:grpSpPr>
          <a:xfrm>
            <a:off x="190440" y="4151160"/>
            <a:ext cx="4300560" cy="838080"/>
            <a:chOff x="190440" y="4151160"/>
            <a:chExt cx="4300560" cy="838080"/>
          </a:xfrm>
        </p:grpSpPr>
        <p:grpSp>
          <p:nvGrpSpPr>
            <p:cNvPr id="773" name="Group 80"/>
            <p:cNvGrpSpPr/>
            <p:nvPr/>
          </p:nvGrpSpPr>
          <p:grpSpPr>
            <a:xfrm>
              <a:off x="190440" y="4151160"/>
              <a:ext cx="1354320" cy="838080"/>
              <a:chOff x="190440" y="4151160"/>
              <a:chExt cx="1354320" cy="838080"/>
            </a:xfrm>
          </p:grpSpPr>
          <p:sp>
            <p:nvSpPr>
              <p:cNvPr id="774" name="Rectangle 81"/>
              <p:cNvSpPr/>
              <p:nvPr/>
            </p:nvSpPr>
            <p:spPr>
              <a:xfrm>
                <a:off x="190440" y="4151160"/>
                <a:ext cx="13543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Text Box 82"/>
              <p:cNvSpPr/>
              <p:nvPr/>
            </p:nvSpPr>
            <p:spPr>
              <a:xfrm>
                <a:off x="236880" y="4227120"/>
                <a:ext cx="126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nsu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83"/>
            <p:cNvGrpSpPr/>
            <p:nvPr/>
          </p:nvGrpSpPr>
          <p:grpSpPr>
            <a:xfrm>
              <a:off x="3129120" y="4151160"/>
              <a:ext cx="1361880" cy="838080"/>
              <a:chOff x="3129120" y="4151160"/>
              <a:chExt cx="1361880" cy="838080"/>
            </a:xfrm>
          </p:grpSpPr>
          <p:sp>
            <p:nvSpPr>
              <p:cNvPr id="777" name="Rectangle 84"/>
              <p:cNvSpPr/>
              <p:nvPr/>
            </p:nvSpPr>
            <p:spPr>
              <a:xfrm>
                <a:off x="3129120" y="4151160"/>
                <a:ext cx="136188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85"/>
              <p:cNvSpPr/>
              <p:nvPr/>
            </p:nvSpPr>
            <p:spPr>
              <a:xfrm>
                <a:off x="3146040" y="4258800"/>
                <a:ext cx="129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n-the-wi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86"/>
            <p:cNvGrpSpPr/>
            <p:nvPr/>
          </p:nvGrpSpPr>
          <p:grpSpPr>
            <a:xfrm>
              <a:off x="2085840" y="4151160"/>
              <a:ext cx="1041480" cy="838080"/>
              <a:chOff x="2085840" y="4151160"/>
              <a:chExt cx="1041480" cy="838080"/>
            </a:xfrm>
          </p:grpSpPr>
          <p:sp>
            <p:nvSpPr>
              <p:cNvPr id="780" name="Rectangle 87"/>
              <p:cNvSpPr/>
              <p:nvPr/>
            </p:nvSpPr>
            <p:spPr>
              <a:xfrm>
                <a:off x="2085840" y="4151160"/>
                <a:ext cx="104148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88"/>
              <p:cNvSpPr/>
              <p:nvPr/>
            </p:nvSpPr>
            <p:spPr>
              <a:xfrm>
                <a:off x="2147400" y="438624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Adap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89"/>
            <p:cNvGrpSpPr/>
            <p:nvPr/>
          </p:nvGrpSpPr>
          <p:grpSpPr>
            <a:xfrm>
              <a:off x="1528920" y="4151160"/>
              <a:ext cx="549000" cy="838080"/>
              <a:chOff x="1528920" y="4151160"/>
              <a:chExt cx="549000" cy="838080"/>
            </a:xfrm>
          </p:grpSpPr>
          <p:sp>
            <p:nvSpPr>
              <p:cNvPr id="783" name="Rectangle 90"/>
              <p:cNvSpPr/>
              <p:nvPr/>
            </p:nvSpPr>
            <p:spPr>
              <a:xfrm>
                <a:off x="1528920" y="4151160"/>
                <a:ext cx="549000" cy="838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91"/>
              <p:cNvSpPr/>
              <p:nvPr/>
            </p:nvSpPr>
            <p:spPr>
              <a:xfrm flipH="1" flipV="1">
                <a:off x="1566360" y="4162680"/>
                <a:ext cx="423720" cy="8136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terfa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85" name="AutoShape 92"/>
          <p:cNvCxnSpPr/>
          <p:nvPr/>
        </p:nvCxnSpPr>
        <p:spPr>
          <a:xfrm>
            <a:off x="4490640" y="4570200"/>
            <a:ext cx="1600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6" name="Text Box 93"/>
          <p:cNvSpPr/>
          <p:nvPr/>
        </p:nvSpPr>
        <p:spPr>
          <a:xfrm>
            <a:off x="4459680" y="4141800"/>
            <a:ext cx="16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the-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94"/>
          <p:cNvGrpSpPr/>
          <p:nvPr/>
        </p:nvGrpSpPr>
        <p:grpSpPr>
          <a:xfrm>
            <a:off x="6068880" y="6335640"/>
            <a:ext cx="2851200" cy="853920"/>
            <a:chOff x="6068880" y="6335640"/>
            <a:chExt cx="2851200" cy="853920"/>
          </a:xfrm>
        </p:grpSpPr>
        <p:sp>
          <p:nvSpPr>
            <p:cNvPr id="788" name="Rectangle 95"/>
            <p:cNvSpPr/>
            <p:nvPr/>
          </p:nvSpPr>
          <p:spPr>
            <a:xfrm>
              <a:off x="6068880" y="6335640"/>
              <a:ext cx="136224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Text Box 96"/>
            <p:cNvSpPr/>
            <p:nvPr/>
          </p:nvSpPr>
          <p:spPr>
            <a:xfrm>
              <a:off x="6158160" y="636552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-the-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Rectangle 97"/>
            <p:cNvSpPr/>
            <p:nvPr/>
          </p:nvSpPr>
          <p:spPr>
            <a:xfrm>
              <a:off x="7413840" y="6335640"/>
              <a:ext cx="1506240" cy="8380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98"/>
            <p:cNvSpPr/>
            <p:nvPr/>
          </p:nvSpPr>
          <p:spPr>
            <a:xfrm>
              <a:off x="7512480" y="6470280"/>
              <a:ext cx="130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ava-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2" name="AutoShape 99"/>
          <p:cNvCxnSpPr/>
          <p:nvPr/>
        </p:nvCxnSpPr>
        <p:spPr>
          <a:xfrm>
            <a:off x="4468320" y="6754320"/>
            <a:ext cx="1600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93" name="Text Box 100"/>
          <p:cNvSpPr/>
          <p:nvPr/>
        </p:nvSpPr>
        <p:spPr>
          <a:xfrm>
            <a:off x="4703040" y="6337440"/>
            <a:ext cx="10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Group 101"/>
          <p:cNvGrpSpPr/>
          <p:nvPr/>
        </p:nvGrpSpPr>
        <p:grpSpPr>
          <a:xfrm>
            <a:off x="168120" y="6335640"/>
            <a:ext cx="4300200" cy="838080"/>
            <a:chOff x="168120" y="6335640"/>
            <a:chExt cx="4300200" cy="838080"/>
          </a:xfrm>
        </p:grpSpPr>
        <p:sp>
          <p:nvSpPr>
            <p:cNvPr id="795" name="Rectangle 102"/>
            <p:cNvSpPr/>
            <p:nvPr/>
          </p:nvSpPr>
          <p:spPr>
            <a:xfrm>
              <a:off x="3106440" y="6335640"/>
              <a:ext cx="13618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103"/>
            <p:cNvSpPr/>
            <p:nvPr/>
          </p:nvSpPr>
          <p:spPr>
            <a:xfrm>
              <a:off x="3198600" y="634032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-the-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104"/>
            <p:cNvSpPr/>
            <p:nvPr/>
          </p:nvSpPr>
          <p:spPr>
            <a:xfrm>
              <a:off x="1506240" y="6335640"/>
              <a:ext cx="54936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05"/>
            <p:cNvSpPr/>
            <p:nvPr/>
          </p:nvSpPr>
          <p:spPr>
            <a:xfrm flipH="1" flipV="1">
              <a:off x="1416960" y="6346800"/>
              <a:ext cx="667080" cy="813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06"/>
            <p:cNvSpPr/>
            <p:nvPr/>
          </p:nvSpPr>
          <p:spPr>
            <a:xfrm>
              <a:off x="168120" y="6335640"/>
              <a:ext cx="135396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107"/>
            <p:cNvSpPr/>
            <p:nvPr/>
          </p:nvSpPr>
          <p:spPr>
            <a:xfrm>
              <a:off x="193680" y="6435360"/>
              <a:ext cx="1303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# Consu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08"/>
            <p:cNvSpPr/>
            <p:nvPr/>
          </p:nvSpPr>
          <p:spPr>
            <a:xfrm>
              <a:off x="2063520" y="6335640"/>
              <a:ext cx="1041480" cy="838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109"/>
            <p:cNvSpPr/>
            <p:nvPr/>
          </p:nvSpPr>
          <p:spPr>
            <a:xfrm>
              <a:off x="2166840" y="6467400"/>
              <a:ext cx="8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#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dap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Text Box 110"/>
          <p:cNvSpPr/>
          <p:nvPr/>
        </p:nvSpPr>
        <p:spPr>
          <a:xfrm>
            <a:off x="4291920" y="519444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11"/>
          <p:cNvSpPr/>
          <p:nvPr/>
        </p:nvSpPr>
        <p:spPr>
          <a:xfrm>
            <a:off x="4322160" y="7353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112"/>
          <p:cNvSpPr/>
          <p:nvPr/>
        </p:nvSpPr>
        <p:spPr>
          <a:xfrm>
            <a:off x="3135240" y="3575160"/>
            <a:ext cx="0" cy="593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13"/>
          <p:cNvSpPr/>
          <p:nvPr/>
        </p:nvSpPr>
        <p:spPr>
          <a:xfrm>
            <a:off x="7445520" y="35830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14"/>
          <p:cNvSpPr/>
          <p:nvPr/>
        </p:nvSpPr>
        <p:spPr>
          <a:xfrm>
            <a:off x="2085840" y="3565440"/>
            <a:ext cx="0" cy="585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115"/>
          <p:cNvSpPr/>
          <p:nvPr/>
        </p:nvSpPr>
        <p:spPr>
          <a:xfrm>
            <a:off x="1535040" y="357516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116"/>
          <p:cNvSpPr/>
          <p:nvPr/>
        </p:nvSpPr>
        <p:spPr>
          <a:xfrm>
            <a:off x="3189240" y="3606840"/>
            <a:ext cx="4216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7"/>
          <p:cNvSpPr/>
          <p:nvPr/>
        </p:nvSpPr>
        <p:spPr>
          <a:xfrm>
            <a:off x="4413600" y="2513160"/>
            <a:ext cx="1387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18"/>
          <p:cNvSpPr/>
          <p:nvPr/>
        </p:nvSpPr>
        <p:spPr>
          <a:xfrm>
            <a:off x="2146320" y="36068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20"/>
          <p:cNvSpPr/>
          <p:nvPr/>
        </p:nvSpPr>
        <p:spPr>
          <a:xfrm>
            <a:off x="1544760" y="3605040"/>
            <a:ext cx="49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1"/>
          <p:cNvSpPr/>
          <p:nvPr/>
        </p:nvSpPr>
        <p:spPr>
          <a:xfrm>
            <a:off x="622440" y="2144880"/>
            <a:ext cx="15746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(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122"/>
          <p:cNvCxnSpPr/>
          <p:nvPr/>
        </p:nvCxnSpPr>
        <p:spPr>
          <a:xfrm flipH="1">
            <a:off x="1785600" y="3149280"/>
            <a:ext cx="100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5" name="AutoShape 123"/>
          <p:cNvCxnSpPr/>
          <p:nvPr/>
        </p:nvCxnSpPr>
        <p:spPr>
          <a:xfrm flipH="1">
            <a:off x="2628720" y="3115800"/>
            <a:ext cx="216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6" name="AutoShape 124"/>
          <p:cNvCxnSpPr/>
          <p:nvPr/>
        </p:nvCxnSpPr>
        <p:spPr>
          <a:xfrm flipH="1">
            <a:off x="5125680" y="3141720"/>
            <a:ext cx="216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Text Box 119"/>
          <p:cNvSpPr/>
          <p:nvPr/>
        </p:nvSpPr>
        <p:spPr>
          <a:xfrm>
            <a:off x="2222640" y="2149560"/>
            <a:ext cx="13251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DAF2-46F8-445D-BFDA-F04271EDD17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 &amp; Innov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ase of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fine clear and comprehensive service interfaces for internal and external u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parate data from presentation 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mote interoper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440" indent="-3697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blish some or all of each interface in the form of an API and WSDL fi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2356-FCE8-4334-A692-D2B4DB73B06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mbining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paration into services requires combination to realise business process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Execution Language (BPEL) is used to choreograph/orchestrate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sider the nature of services/messaging i.e. synchronous, asynchronous, polled, etc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traight Connector 36"/>
          <p:cNvSpPr/>
          <p:nvPr/>
        </p:nvSpPr>
        <p:spPr>
          <a:xfrm>
            <a:off x="1790640" y="286236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traight Connector 40"/>
          <p:cNvSpPr/>
          <p:nvPr/>
        </p:nvSpPr>
        <p:spPr>
          <a:xfrm>
            <a:off x="1790640" y="405144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traight Connector 41"/>
          <p:cNvSpPr/>
          <p:nvPr/>
        </p:nvSpPr>
        <p:spPr>
          <a:xfrm>
            <a:off x="1773360" y="635472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traight Connector 42"/>
          <p:cNvSpPr/>
          <p:nvPr/>
        </p:nvSpPr>
        <p:spPr>
          <a:xfrm>
            <a:off x="1773360" y="5168880"/>
            <a:ext cx="52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traight Connector 31"/>
          <p:cNvSpPr/>
          <p:nvPr/>
        </p:nvSpPr>
        <p:spPr>
          <a:xfrm>
            <a:off x="2324160" y="31748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traight Connector 32"/>
          <p:cNvSpPr/>
          <p:nvPr/>
        </p:nvSpPr>
        <p:spPr>
          <a:xfrm>
            <a:off x="2311560" y="393696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traight Connector 33"/>
          <p:cNvSpPr/>
          <p:nvPr/>
        </p:nvSpPr>
        <p:spPr>
          <a:xfrm>
            <a:off x="2311560" y="4660920"/>
            <a:ext cx="52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Straight Connector 34"/>
          <p:cNvSpPr/>
          <p:nvPr/>
        </p:nvSpPr>
        <p:spPr>
          <a:xfrm>
            <a:off x="2298600" y="5384880"/>
            <a:ext cx="520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traight Connector 35"/>
          <p:cNvSpPr/>
          <p:nvPr/>
        </p:nvSpPr>
        <p:spPr>
          <a:xfrm>
            <a:off x="2311560" y="61340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5"/>
          <p:cNvSpPr/>
          <p:nvPr/>
        </p:nvSpPr>
        <p:spPr>
          <a:xfrm>
            <a:off x="2806560" y="2286000"/>
            <a:ext cx="6007320" cy="57531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1"/>
          <p:cNvSpPr/>
          <p:nvPr/>
        </p:nvSpPr>
        <p:spPr>
          <a:xfrm>
            <a:off x="4013280" y="2502000"/>
            <a:ext cx="1879560" cy="42544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Box 12"/>
          <p:cNvSpPr/>
          <p:nvPr/>
        </p:nvSpPr>
        <p:spPr>
          <a:xfrm rot="16200000">
            <a:off x="3759120" y="42346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processor and policy enfor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Service Bu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B285-1AEF-4525-BA12-45C64F4BD22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190440" y="250200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2565360" y="293364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2565360" y="368316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2577960" y="4406760"/>
            <a:ext cx="20955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9"/>
          <p:cNvSpPr/>
          <p:nvPr/>
        </p:nvSpPr>
        <p:spPr>
          <a:xfrm>
            <a:off x="2565360" y="5130720"/>
            <a:ext cx="2095560" cy="47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MS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0"/>
          <p:cNvSpPr/>
          <p:nvPr/>
        </p:nvSpPr>
        <p:spPr>
          <a:xfrm>
            <a:off x="2565360" y="5892840"/>
            <a:ext cx="209556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Rectangle 13" descr=""/>
          <p:cNvPicPr/>
          <p:nvPr/>
        </p:nvPicPr>
        <p:blipFill>
          <a:blip r:embed="rId1"/>
          <a:stretch/>
        </p:blipFill>
        <p:spPr>
          <a:xfrm>
            <a:off x="6248520" y="2494080"/>
            <a:ext cx="749160" cy="4271760"/>
          </a:xfrm>
          <a:prstGeom prst="rect">
            <a:avLst/>
          </a:prstGeom>
          <a:ln w="0">
            <a:noFill/>
          </a:ln>
        </p:spPr>
      </p:pic>
      <p:cxnSp>
        <p:nvCxnSpPr>
          <p:cNvPr id="848" name="Straight Arrow Connector 15"/>
          <p:cNvCxnSpPr>
            <a:stCxn id="836" idx="3"/>
            <a:endCxn id="847" idx="1"/>
          </p:cNvCxnSpPr>
          <p:nvPr/>
        </p:nvCxnSpPr>
        <p:spPr>
          <a:xfrm>
            <a:off x="5892480" y="4629240"/>
            <a:ext cx="369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49" name="Rectangle 16"/>
          <p:cNvSpPr/>
          <p:nvPr/>
        </p:nvSpPr>
        <p:spPr>
          <a:xfrm>
            <a:off x="7391520" y="2489040"/>
            <a:ext cx="1257120" cy="430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Box 17"/>
          <p:cNvSpPr/>
          <p:nvPr/>
        </p:nvSpPr>
        <p:spPr>
          <a:xfrm>
            <a:off x="7391520" y="250200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8"/>
          <p:cNvSpPr/>
          <p:nvPr/>
        </p:nvSpPr>
        <p:spPr>
          <a:xfrm>
            <a:off x="7454880" y="3289320"/>
            <a:ext cx="1104840" cy="100332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9"/>
          <p:cNvSpPr/>
          <p:nvPr/>
        </p:nvSpPr>
        <p:spPr>
          <a:xfrm>
            <a:off x="7454880" y="5600880"/>
            <a:ext cx="1104840" cy="1002960"/>
          </a:xfrm>
          <a:prstGeom prst="rect">
            <a:avLst/>
          </a:prstGeom>
          <a:solidFill>
            <a:srgbClr val="000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Box 20"/>
          <p:cNvSpPr/>
          <p:nvPr/>
        </p:nvSpPr>
        <p:spPr>
          <a:xfrm>
            <a:off x="7749360" y="44956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Straight Arrow Connector 21"/>
          <p:cNvCxnSpPr>
            <a:stCxn id="847" idx="3"/>
            <a:endCxn id="849" idx="1"/>
          </p:cNvCxnSpPr>
          <p:nvPr/>
        </p:nvCxnSpPr>
        <p:spPr>
          <a:xfrm>
            <a:off x="6984720" y="4628880"/>
            <a:ext cx="4071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55" name="Rectangle 26"/>
          <p:cNvSpPr/>
          <p:nvPr/>
        </p:nvSpPr>
        <p:spPr>
          <a:xfrm>
            <a:off x="2921040" y="7493040"/>
            <a:ext cx="57402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2921040" y="6946920"/>
            <a:ext cx="57402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tion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Straight Connector 29"/>
          <p:cNvSpPr/>
          <p:nvPr/>
        </p:nvSpPr>
        <p:spPr>
          <a:xfrm flipH="1">
            <a:off x="2309400" y="2224080"/>
            <a:ext cx="3240" cy="595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37"/>
          <p:cNvSpPr/>
          <p:nvPr/>
        </p:nvSpPr>
        <p:spPr>
          <a:xfrm>
            <a:off x="190440" y="365760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38"/>
          <p:cNvSpPr/>
          <p:nvPr/>
        </p:nvSpPr>
        <p:spPr>
          <a:xfrm>
            <a:off x="190440" y="482616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App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39"/>
          <p:cNvSpPr/>
          <p:nvPr/>
        </p:nvSpPr>
        <p:spPr>
          <a:xfrm>
            <a:off x="190440" y="5981760"/>
            <a:ext cx="1879560" cy="74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ver-the-Horiz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74840" y="2234880"/>
            <a:ext cx="81864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ll Enterprise Service B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iling of WS-* Standar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tended REST-full capabilit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ols support for WSDLv2.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S enabled network de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ud compu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del Driven Architec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8F31-FAFF-43CE-B60F-6052A86026A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A4EF-0887-4CB0-8A45-72FE34E62C4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Web Services approach based upon XML, SOAP,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st practice based on the WS-I Basic Profile and support Profi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, and separation, of interfaces and protocols to create flexible design for 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rapidly changing area of technology so stay inform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EB40-B35E-4189-917F-91F42CD74E1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0D88-7E60-4C09-99BE-1AB901AA043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what implementation technologies should be adopted in the short and mid ter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the issues and concerns to be considered when looking to adopt Web Service solu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technical interoperability must be addressed to suppor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C52F-A8CD-485D-8150-C59D7EC1C0D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re Web Technolog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774720" y="2865600"/>
            <a:ext cx="1398600" cy="78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051000" y="2865600"/>
            <a:ext cx="1432080" cy="7873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5207040" y="2865600"/>
            <a:ext cx="1396800" cy="787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7215120" y="2865600"/>
            <a:ext cx="1395360" cy="787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7" name="AutoShape 9"/>
          <p:cNvCxnSpPr>
            <a:stCxn id="643" idx="3"/>
            <a:endCxn id="644" idx="1"/>
          </p:cNvCxnSpPr>
          <p:nvPr/>
        </p:nvCxnSpPr>
        <p:spPr>
          <a:xfrm>
            <a:off x="2173320" y="3258720"/>
            <a:ext cx="8784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8" name="AutoShape 10"/>
          <p:cNvCxnSpPr>
            <a:stCxn id="644" idx="3"/>
            <a:endCxn id="645" idx="1"/>
          </p:cNvCxnSpPr>
          <p:nvPr/>
        </p:nvCxnSpPr>
        <p:spPr>
          <a:xfrm>
            <a:off x="4482720" y="3258720"/>
            <a:ext cx="724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AutoShape 11"/>
          <p:cNvCxnSpPr>
            <a:stCxn id="645" idx="3"/>
            <a:endCxn id="646" idx="1"/>
          </p:cNvCxnSpPr>
          <p:nvPr/>
        </p:nvCxnSpPr>
        <p:spPr>
          <a:xfrm>
            <a:off x="6603840" y="3258720"/>
            <a:ext cx="612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AutoShape 12"/>
          <p:cNvSpPr/>
          <p:nvPr/>
        </p:nvSpPr>
        <p:spPr>
          <a:xfrm>
            <a:off x="1270080" y="3962520"/>
            <a:ext cx="55404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3"/>
          <p:cNvSpPr/>
          <p:nvPr/>
        </p:nvSpPr>
        <p:spPr>
          <a:xfrm>
            <a:off x="349236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554832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5"/>
          <p:cNvSpPr/>
          <p:nvPr/>
        </p:nvSpPr>
        <p:spPr>
          <a:xfrm>
            <a:off x="7580160" y="3962520"/>
            <a:ext cx="55260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6"/>
          <p:cNvSpPr/>
          <p:nvPr/>
        </p:nvSpPr>
        <p:spPr>
          <a:xfrm>
            <a:off x="177840" y="4527720"/>
            <a:ext cx="279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2789280" y="4527720"/>
            <a:ext cx="202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8"/>
          <p:cNvSpPr/>
          <p:nvPr/>
        </p:nvSpPr>
        <p:spPr>
          <a:xfrm>
            <a:off x="4838760" y="4540320"/>
            <a:ext cx="201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9"/>
          <p:cNvSpPr/>
          <p:nvPr/>
        </p:nvSpPr>
        <p:spPr>
          <a:xfrm>
            <a:off x="7167600" y="4527720"/>
            <a:ext cx="163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711360" y="6459480"/>
            <a:ext cx="1398600" cy="78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2987640" y="6459480"/>
            <a:ext cx="1432080" cy="7873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5143680" y="6459480"/>
            <a:ext cx="1396800" cy="787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AutoShape 9"/>
          <p:cNvCxnSpPr>
            <a:stCxn id="658" idx="3"/>
            <a:endCxn id="659" idx="1"/>
          </p:cNvCxnSpPr>
          <p:nvPr/>
        </p:nvCxnSpPr>
        <p:spPr>
          <a:xfrm>
            <a:off x="2109960" y="6853320"/>
            <a:ext cx="8784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2" name="AutoShape 10"/>
          <p:cNvCxnSpPr>
            <a:stCxn id="659" idx="3"/>
            <a:endCxn id="660" idx="1"/>
          </p:cNvCxnSpPr>
          <p:nvPr/>
        </p:nvCxnSpPr>
        <p:spPr>
          <a:xfrm>
            <a:off x="4419360" y="6853320"/>
            <a:ext cx="724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AutoShape 12"/>
          <p:cNvSpPr/>
          <p:nvPr/>
        </p:nvSpPr>
        <p:spPr>
          <a:xfrm rot="10800000">
            <a:off x="1180800" y="5854320"/>
            <a:ext cx="554040" cy="32220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2"/>
          <p:cNvSpPr/>
          <p:nvPr/>
        </p:nvSpPr>
        <p:spPr>
          <a:xfrm rot="10800000">
            <a:off x="3428640" y="5867280"/>
            <a:ext cx="554040" cy="32256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12"/>
          <p:cNvSpPr/>
          <p:nvPr/>
        </p:nvSpPr>
        <p:spPr>
          <a:xfrm rot="10800000">
            <a:off x="5574960" y="5867280"/>
            <a:ext cx="554040" cy="322560"/>
          </a:xfrm>
          <a:prstGeom prst="downArrow">
            <a:avLst>
              <a:gd name="adj1" fmla="val 50000"/>
              <a:gd name="adj2" fmla="val 278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F222-D602-4F8B-B147-02B2D087596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OAP Messag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97000" y="2070000"/>
            <a:ext cx="432576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tensible - support various WS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mote Procedure Call or document-based paylo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ult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ailable ver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AP v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AP v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4863960" y="1943280"/>
            <a:ext cx="3682800" cy="6120720"/>
            <a:chOff x="4863960" y="1943280"/>
            <a:chExt cx="3682800" cy="6120720"/>
          </a:xfrm>
        </p:grpSpPr>
        <p:sp>
          <p:nvSpPr>
            <p:cNvPr id="671" name="AutoShape 6"/>
            <p:cNvSpPr/>
            <p:nvPr/>
          </p:nvSpPr>
          <p:spPr>
            <a:xfrm rot="10800000">
              <a:off x="4863960" y="1943280"/>
              <a:ext cx="3682800" cy="6120720"/>
            </a:xfrm>
            <a:prstGeom prst="foldedCorner">
              <a:avLst>
                <a:gd name="adj" fmla="val 1250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7"/>
            <p:cNvSpPr/>
            <p:nvPr/>
          </p:nvSpPr>
          <p:spPr>
            <a:xfrm>
              <a:off x="5420880" y="2753640"/>
              <a:ext cx="2754360" cy="2266560"/>
            </a:xfrm>
            <a:prstGeom prst="flowChart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utoShape 8"/>
            <p:cNvSpPr/>
            <p:nvPr/>
          </p:nvSpPr>
          <p:spPr>
            <a:xfrm>
              <a:off x="5447520" y="5321520"/>
              <a:ext cx="2754360" cy="2431080"/>
            </a:xfrm>
            <a:prstGeom prst="flowChart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AutoShape 9"/>
            <p:cNvSpPr/>
            <p:nvPr/>
          </p:nvSpPr>
          <p:spPr>
            <a:xfrm>
              <a:off x="5535360" y="3391200"/>
              <a:ext cx="2523240" cy="131220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10"/>
            <p:cNvSpPr/>
            <p:nvPr/>
          </p:nvSpPr>
          <p:spPr>
            <a:xfrm>
              <a:off x="5478840" y="1976400"/>
              <a:ext cx="268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AP En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11"/>
            <p:cNvSpPr/>
            <p:nvPr/>
          </p:nvSpPr>
          <p:spPr>
            <a:xfrm>
              <a:off x="6368400" y="534960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12"/>
            <p:cNvSpPr/>
            <p:nvPr/>
          </p:nvSpPr>
          <p:spPr>
            <a:xfrm>
              <a:off x="6246720" y="2781720"/>
              <a:ext cx="12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ead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utoShape 13"/>
            <p:cNvSpPr/>
            <p:nvPr/>
          </p:nvSpPr>
          <p:spPr>
            <a:xfrm>
              <a:off x="5573160" y="5993280"/>
              <a:ext cx="2523600" cy="1429920"/>
            </a:xfrm>
            <a:prstGeom prst="flowChart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Text Box 14"/>
            <p:cNvSpPr/>
            <p:nvPr/>
          </p:nvSpPr>
          <p:spPr>
            <a:xfrm>
              <a:off x="5914800" y="6167520"/>
              <a:ext cx="168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aylo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ault Inf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15"/>
            <p:cNvSpPr/>
            <p:nvPr/>
          </p:nvSpPr>
          <p:spPr>
            <a:xfrm>
              <a:off x="5654160" y="3929400"/>
              <a:ext cx="222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eader block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Group 16"/>
            <p:cNvGrpSpPr/>
            <p:nvPr/>
          </p:nvGrpSpPr>
          <p:grpSpPr>
            <a:xfrm>
              <a:off x="6209280" y="3494520"/>
              <a:ext cx="1153440" cy="259200"/>
              <a:chOff x="6209280" y="3494520"/>
              <a:chExt cx="1153440" cy="259200"/>
            </a:xfrm>
          </p:grpSpPr>
          <p:sp>
            <p:nvSpPr>
              <p:cNvPr id="682" name="Rectangle 17"/>
              <p:cNvSpPr/>
              <p:nvPr/>
            </p:nvSpPr>
            <p:spPr>
              <a:xfrm>
                <a:off x="6209280" y="349452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18"/>
              <p:cNvSpPr/>
              <p:nvPr/>
            </p:nvSpPr>
            <p:spPr>
              <a:xfrm>
                <a:off x="643788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19"/>
              <p:cNvSpPr/>
              <p:nvPr/>
            </p:nvSpPr>
            <p:spPr>
              <a:xfrm>
                <a:off x="666612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Rectangle 20"/>
              <p:cNvSpPr/>
              <p:nvPr/>
            </p:nvSpPr>
            <p:spPr>
              <a:xfrm>
                <a:off x="6894360" y="349452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21"/>
              <p:cNvSpPr/>
              <p:nvPr/>
            </p:nvSpPr>
            <p:spPr>
              <a:xfrm>
                <a:off x="7122960" y="349452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22"/>
            <p:cNvGrpSpPr/>
            <p:nvPr/>
          </p:nvGrpSpPr>
          <p:grpSpPr>
            <a:xfrm>
              <a:off x="6209280" y="3741480"/>
              <a:ext cx="1153440" cy="259200"/>
              <a:chOff x="6209280" y="3741480"/>
              <a:chExt cx="1153440" cy="259200"/>
            </a:xfrm>
          </p:grpSpPr>
          <p:sp>
            <p:nvSpPr>
              <p:cNvPr id="688" name="Rectangle 23"/>
              <p:cNvSpPr/>
              <p:nvPr/>
            </p:nvSpPr>
            <p:spPr>
              <a:xfrm>
                <a:off x="6209280" y="374148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Rectangle 24"/>
              <p:cNvSpPr/>
              <p:nvPr/>
            </p:nvSpPr>
            <p:spPr>
              <a:xfrm>
                <a:off x="643788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25"/>
              <p:cNvSpPr/>
              <p:nvPr/>
            </p:nvSpPr>
            <p:spPr>
              <a:xfrm>
                <a:off x="666612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Rectangle 26"/>
              <p:cNvSpPr/>
              <p:nvPr/>
            </p:nvSpPr>
            <p:spPr>
              <a:xfrm>
                <a:off x="6894360" y="3741480"/>
                <a:ext cx="24048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27"/>
              <p:cNvSpPr/>
              <p:nvPr/>
            </p:nvSpPr>
            <p:spPr>
              <a:xfrm>
                <a:off x="7122960" y="3741480"/>
                <a:ext cx="239760" cy="259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840C-108E-40D2-BC54-D9E6F66CD94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eb Services Descrip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6" name="Rectangle 17"/>
          <p:cNvSpPr/>
          <p:nvPr/>
        </p:nvSpPr>
        <p:spPr>
          <a:xfrm>
            <a:off x="5641920" y="6103800"/>
            <a:ext cx="72864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 rot="16200000">
            <a:off x="27360" y="6205320"/>
            <a:ext cx="162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 rot="16200000">
            <a:off x="135000" y="3925800"/>
            <a:ext cx="14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7"/>
          <p:cNvSpPr/>
          <p:nvPr/>
        </p:nvSpPr>
        <p:spPr>
          <a:xfrm>
            <a:off x="1371600" y="6281640"/>
            <a:ext cx="2006640" cy="1020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0"/>
          <p:cNvSpPr/>
          <p:nvPr/>
        </p:nvSpPr>
        <p:spPr>
          <a:xfrm>
            <a:off x="1587600" y="3124080"/>
            <a:ext cx="6908760" cy="2227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11"/>
          <p:cNvSpPr/>
          <p:nvPr/>
        </p:nvSpPr>
        <p:spPr>
          <a:xfrm>
            <a:off x="3200400" y="6262560"/>
            <a:ext cx="3570120" cy="150840"/>
          </a:xfrm>
          <a:prstGeom prst="rightArrow">
            <a:avLst>
              <a:gd name="adj1" fmla="val 60435"/>
              <a:gd name="adj2" fmla="val 1498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12"/>
          <p:cNvSpPr/>
          <p:nvPr/>
        </p:nvSpPr>
        <p:spPr>
          <a:xfrm flipH="1">
            <a:off x="3225960" y="7010280"/>
            <a:ext cx="3473280" cy="139680"/>
          </a:xfrm>
          <a:prstGeom prst="rightArrow">
            <a:avLst>
              <a:gd name="adj1" fmla="val 60435"/>
              <a:gd name="adj2" fmla="val 1581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3484440" y="6019920"/>
            <a:ext cx="1163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460680" y="6730920"/>
            <a:ext cx="1162080" cy="6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6"/>
          <p:cNvSpPr/>
          <p:nvPr/>
        </p:nvSpPr>
        <p:spPr>
          <a:xfrm>
            <a:off x="3543840" y="743580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19"/>
          <p:cNvSpPr/>
          <p:nvPr/>
        </p:nvSpPr>
        <p:spPr>
          <a:xfrm>
            <a:off x="2306520" y="535140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0"/>
          <p:cNvSpPr/>
          <p:nvPr/>
        </p:nvSpPr>
        <p:spPr>
          <a:xfrm>
            <a:off x="6853320" y="3240000"/>
            <a:ext cx="151596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1"/>
          <p:cNvSpPr/>
          <p:nvPr/>
        </p:nvSpPr>
        <p:spPr>
          <a:xfrm>
            <a:off x="2806560" y="3238560"/>
            <a:ext cx="248940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Typ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9" name="AutoShape 22"/>
          <p:cNvCxnSpPr>
            <a:stCxn id="707" idx="2"/>
            <a:endCxn id="710" idx="0"/>
          </p:cNvCxnSpPr>
          <p:nvPr/>
        </p:nvCxnSpPr>
        <p:spPr>
          <a:xfrm flipH="1">
            <a:off x="7606800" y="5267160"/>
            <a:ext cx="5760" cy="99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1" name="Rectangle 23"/>
          <p:cNvSpPr/>
          <p:nvPr/>
        </p:nvSpPr>
        <p:spPr>
          <a:xfrm>
            <a:off x="5102280" y="3238560"/>
            <a:ext cx="1801800" cy="20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ns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AutoShape 24"/>
          <p:cNvCxnSpPr>
            <a:stCxn id="711" idx="2"/>
            <a:endCxn id="696" idx="0"/>
          </p:cNvCxnSpPr>
          <p:nvPr/>
        </p:nvCxnSpPr>
        <p:spPr>
          <a:xfrm>
            <a:off x="6001200" y="5265720"/>
            <a:ext cx="3960" cy="838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AutoShape 25"/>
          <p:cNvCxnSpPr>
            <a:stCxn id="708" idx="2"/>
            <a:endCxn id="703" idx="0"/>
          </p:cNvCxnSpPr>
          <p:nvPr/>
        </p:nvCxnSpPr>
        <p:spPr>
          <a:xfrm>
            <a:off x="4051440" y="5265360"/>
            <a:ext cx="16560" cy="754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4" name="Text Box 26"/>
          <p:cNvSpPr/>
          <p:nvPr/>
        </p:nvSpPr>
        <p:spPr>
          <a:xfrm>
            <a:off x="1605960" y="3098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9"/>
          <p:cNvSpPr/>
          <p:nvPr/>
        </p:nvSpPr>
        <p:spPr>
          <a:xfrm>
            <a:off x="6616800" y="6256440"/>
            <a:ext cx="1981080" cy="1033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6"/>
          <p:cNvSpPr/>
          <p:nvPr/>
        </p:nvSpPr>
        <p:spPr>
          <a:xfrm>
            <a:off x="851760" y="2368440"/>
            <a:ext cx="803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 Services Description Language (WS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7D9D-5EBC-4EF8-9BBF-1CCB54B40BA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S-I Organiz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74480" y="2234880"/>
            <a:ext cx="47574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b Services Interoperabi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stablish consensus on best practice adoption of Web Service standards from W3C and OA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S-I Basic Profile 1.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filing of the W3C Specif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ynchronous communications mod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further Basic Profiles under develop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2 – inc. WS-Addres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3812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0 – SOAPv1.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5494320" y="2197080"/>
          <a:ext cx="3009960" cy="549900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ML schema v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APv1.1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TPv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DLv1.1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10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DIv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721" name="AutoShape 19"/>
          <p:cNvSpPr/>
          <p:nvPr/>
        </p:nvSpPr>
        <p:spPr>
          <a:xfrm>
            <a:off x="4622760" y="4346640"/>
            <a:ext cx="660600" cy="771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314B-D111-409C-9FF7-EA79535330E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reating and Deploying Servic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reate a WSDL description (adopt interop best practice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Generate service implementation from the WSDL (use appropriate tool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stall the service using a Web Server e.g. Apach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ke the WSDL available for Client implement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7CE7-11AB-44B6-B5CB-FC3039D5759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0360" y="1299960"/>
            <a:ext cx="815364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S-* Standard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729" name=""/>
          <p:cNvGraphicFramePr/>
          <p:nvPr/>
        </p:nvGraphicFramePr>
        <p:xfrm>
          <a:off x="393840" y="4127400"/>
          <a:ext cx="8204040" cy="4230720"/>
        </p:xfrm>
        <a:graphic>
          <a:graphicData uri="http://schemas.openxmlformats.org/drawingml/2006/table">
            <a:tbl>
              <a:tblPr/>
              <a:tblGrid>
                <a:gridCol w="2571480"/>
                <a:gridCol w="5632560"/>
              </a:tblGrid>
              <a:tr h="58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S Stand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T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 Transmission Optimisation Mechanism for sending non-XML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Addr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-point addr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Secur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 framework for authentication and authori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-Poli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aching policy data to messag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vice composition using the Business Process Execution 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0" name="Rectangle 5"/>
          <p:cNvSpPr/>
          <p:nvPr/>
        </p:nvSpPr>
        <p:spPr>
          <a:xfrm>
            <a:off x="474840" y="2235240"/>
            <a:ext cx="813564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ond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ration Web Services (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S-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 extend the capability of the core Web 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6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E2D0-FBC0-49B6-8922-7C208ACFEB8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Web Services Stack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4" name="Rectangle 4"/>
          <p:cNvSpPr/>
          <p:nvPr/>
        </p:nvSpPr>
        <p:spPr>
          <a:xfrm>
            <a:off x="1828800" y="7137360"/>
            <a:ext cx="5375160" cy="75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, SMTP, FTP, IIOP, 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441360" y="2425680"/>
            <a:ext cx="1336680" cy="5448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612360" y="75182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8"/>
          <p:cNvSpPr/>
          <p:nvPr/>
        </p:nvSpPr>
        <p:spPr>
          <a:xfrm>
            <a:off x="7265880" y="2427120"/>
            <a:ext cx="1336680" cy="5446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9"/>
          <p:cNvSpPr/>
          <p:nvPr/>
        </p:nvSpPr>
        <p:spPr>
          <a:xfrm>
            <a:off x="1838160" y="2425680"/>
            <a:ext cx="5348520" cy="457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2262240" y="4508640"/>
            <a:ext cx="4857840" cy="22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11"/>
          <p:cNvSpPr/>
          <p:nvPr/>
        </p:nvSpPr>
        <p:spPr>
          <a:xfrm>
            <a:off x="2316240" y="6291360"/>
            <a:ext cx="4697280" cy="43956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AP (v1.1 &amp; v1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12"/>
          <p:cNvSpPr/>
          <p:nvPr/>
        </p:nvSpPr>
        <p:spPr>
          <a:xfrm>
            <a:off x="2333520" y="4940280"/>
            <a:ext cx="4680000" cy="1244520"/>
          </a:xfrm>
          <a:prstGeom prst="rect">
            <a:avLst/>
          </a:prstGeom>
          <a:solidFill>
            <a:srgbClr val="4fff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13"/>
          <p:cNvSpPr/>
          <p:nvPr/>
        </p:nvSpPr>
        <p:spPr>
          <a:xfrm>
            <a:off x="3717360" y="4940280"/>
            <a:ext cx="209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AP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2260440" y="3608280"/>
            <a:ext cx="4857840" cy="8240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DL (v1.1 &amp;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4154400" y="44578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6"/>
          <p:cNvSpPr/>
          <p:nvPr/>
        </p:nvSpPr>
        <p:spPr>
          <a:xfrm rot="16200000">
            <a:off x="-49680" y="4538520"/>
            <a:ext cx="42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Technologies XML, DTD, X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7"/>
          <p:cNvSpPr/>
          <p:nvPr/>
        </p:nvSpPr>
        <p:spPr>
          <a:xfrm>
            <a:off x="2416320" y="5450040"/>
            <a:ext cx="7966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9"/>
          <p:cNvSpPr/>
          <p:nvPr/>
        </p:nvSpPr>
        <p:spPr>
          <a:xfrm>
            <a:off x="3286080" y="5442120"/>
            <a:ext cx="79704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20"/>
          <p:cNvSpPr/>
          <p:nvPr/>
        </p:nvSpPr>
        <p:spPr>
          <a:xfrm>
            <a:off x="4157640" y="5450040"/>
            <a:ext cx="83988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21"/>
          <p:cNvSpPr/>
          <p:nvPr/>
        </p:nvSpPr>
        <p:spPr>
          <a:xfrm>
            <a:off x="547560" y="2511360"/>
            <a:ext cx="1111320" cy="84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2"/>
          <p:cNvSpPr/>
          <p:nvPr/>
        </p:nvSpPr>
        <p:spPr>
          <a:xfrm>
            <a:off x="533520" y="3408480"/>
            <a:ext cx="1110960" cy="8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3"/>
          <p:cNvSpPr/>
          <p:nvPr/>
        </p:nvSpPr>
        <p:spPr>
          <a:xfrm>
            <a:off x="7350120" y="2509920"/>
            <a:ext cx="117000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4"/>
          <p:cNvSpPr/>
          <p:nvPr/>
        </p:nvSpPr>
        <p:spPr>
          <a:xfrm>
            <a:off x="5072040" y="5440320"/>
            <a:ext cx="83988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5"/>
          <p:cNvSpPr/>
          <p:nvPr/>
        </p:nvSpPr>
        <p:spPr>
          <a:xfrm>
            <a:off x="7350120" y="3441600"/>
            <a:ext cx="117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6"/>
          <p:cNvSpPr/>
          <p:nvPr/>
        </p:nvSpPr>
        <p:spPr>
          <a:xfrm>
            <a:off x="7202520" y="75261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27"/>
          <p:cNvSpPr/>
          <p:nvPr/>
        </p:nvSpPr>
        <p:spPr>
          <a:xfrm>
            <a:off x="2252520" y="2492280"/>
            <a:ext cx="4857840" cy="10540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4208040" y="24415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2336760" y="2870280"/>
            <a:ext cx="13255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1"/>
          <p:cNvSpPr/>
          <p:nvPr/>
        </p:nvSpPr>
        <p:spPr>
          <a:xfrm>
            <a:off x="3754440" y="2870280"/>
            <a:ext cx="7970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2"/>
          <p:cNvSpPr/>
          <p:nvPr/>
        </p:nvSpPr>
        <p:spPr>
          <a:xfrm>
            <a:off x="5986440" y="5448240"/>
            <a:ext cx="9493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S-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33"/>
          <p:cNvSpPr/>
          <p:nvPr/>
        </p:nvSpPr>
        <p:spPr>
          <a:xfrm>
            <a:off x="5545080" y="2870280"/>
            <a:ext cx="14652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34"/>
          <p:cNvSpPr/>
          <p:nvPr/>
        </p:nvSpPr>
        <p:spPr>
          <a:xfrm>
            <a:off x="4643280" y="2870280"/>
            <a:ext cx="7970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0:30:08Z</dcterms:created>
  <dc:creator>C Smythe</dc:creator>
  <dc:description/>
  <dc:language>en-US</dc:language>
  <cp:lastModifiedBy>Colin Smythe</cp:lastModifiedBy>
  <cp:lastPrinted>2008-02-19T11:08:18Z</cp:lastPrinted>
  <dcterms:modified xsi:type="dcterms:W3CDTF">2009-05-20T20:26:50Z</dcterms:modified>
  <cp:revision>268</cp:revision>
  <dc:subject/>
  <dc:title>No Slide Title</dc:title>
</cp:coreProperties>
</file>